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E85C-95F3-462B-A0FC-C7B30A2F4F9A}" type="slidenum">
              <a:rPr b="0" lang="gl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6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82C7-55D3-493C-9035-B1D52A7ADC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6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F697-543A-4297-8FD0-1FAFBCC12B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6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A878-22CD-49A6-90E7-B9A3C9B0C6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34F-933F-4659-BA1E-DCE42E29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6D4-C283-4BD9-818E-875E076C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B2BBF-4D93-401D-BD2B-A3BB1D1E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7FA47-19D0-4968-833A-AD81B39E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954B1-7B42-41C7-A474-8C76EF5B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9EBBC-7C28-48CA-9F3C-87D2AFC2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7A7A9-C182-4C90-950A-82574E29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F2C0D-CCB0-4E13-8F10-7ABE9530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46065-3F1C-43E6-90D5-341C724B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DD59E-180D-44B7-8F37-05C371B0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6E801-F1E5-4D56-B3C2-C884B091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7778F-B6DF-4B66-9A9B-96C18E7B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DDA-074C-4A10-A71F-71390104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C1E8C-3F19-4380-B6EA-2196BE44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D2222-87A1-4288-8BA5-5F019B33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B4AE6-EA1A-40F6-B52E-ACF35B63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B7C36-016F-4B8A-AEEC-D6D3E70E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60F25-FC56-4549-AC45-CBB3443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DE913-115A-44A8-9F40-FF1AE8B3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0257A-28AF-4C9D-BEC7-A2045E4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FCC1F-E22C-4CBF-A77F-0B2E6B4B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5F122-C1E3-40AE-BDED-802DA4BF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5572F-C8B3-4E65-AB2E-49581C9F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314-B294-400D-B889-38EE5F13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25946-92B1-483B-A5C0-5676FD50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86A88-C1B0-4E85-BA90-9BA5E985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B0301-BC16-41B7-A348-51466784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090AE-7DE0-4944-A9B4-387CDE52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E8626-4042-4AA5-87F2-7DB5AFAE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84001-FDE7-49FC-824C-68169316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60378-FDBC-4A99-907D-F1AB74DA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37D71-4CCF-4A60-BC87-E6C7F20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7D98C-480A-4016-A507-21655AB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561DA-7361-4662-8073-4CBEC78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AC88-1F0A-4859-86E6-CF888C70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7B647-80F6-49D4-A896-DDF2F8C1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1577D-4D74-4455-92A4-B4DEA2D8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504D0-ABBA-4CE0-9AA8-0E46846A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59B17-38F6-49EB-982B-E33F6FF8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9A55F-7D60-4C96-AE33-D2C51817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2A2AB-7F0E-4EEF-B90D-203B6588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6CC34-9BBE-4F24-B220-496AAD97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16F35-9CC8-46A0-A1C1-D0AD76B7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76044-360A-4B66-AC69-A12B6F1A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7908A-2CA6-4BEE-A2BB-4C3A6360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F3F6-1567-452E-B0AF-16AFF256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BFE68-151C-4A93-870C-C97589D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40B96-0C79-4419-B59B-5DCD605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9A8A4-D901-4501-B4D8-FAB5D1E5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A267D-1177-460C-B174-8EE711F2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C8D82-5ED4-4EA9-B1B2-CA01A3C9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A40E9-4173-459C-A502-9FA761D6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1C0CB-33B2-41FB-8394-F63F555F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5C3EC-0580-4516-B5E2-1A92A945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A0876-C1C1-4F6A-8401-A60834CF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7476F-EC09-42E8-AA4F-14B34ABF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B8D-4CCA-4FBD-89D1-15056DB2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EEFD2-DC54-4AA8-84F1-24CB33B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3D2BD-7955-424D-B450-0F10DCC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61482-34E3-4FC8-9A50-15F35FBD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10F39-F6BB-4634-A13C-059D338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7A97F-DFA6-4C0A-9222-CC8EA331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15439-FD70-4299-977E-3886D52E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1C70A-12A5-491C-8A07-55575199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4D4A6-A106-4841-B4C8-8E09383C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18097-F426-4A27-9E10-BC7C5E6A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82D7E-7D81-48E6-B4CF-F2F4E28E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529B-C76C-4B34-8B6B-EF9ED992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16CC8-9F42-46CC-9206-CDC39F11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5CD8A-F4CD-45B0-BD71-0547221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A3CD0-8B3B-4CB0-A123-029E9D0E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EA17D-A810-4537-A8E8-071F0A30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80C00-2930-4034-B7E7-C57C878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BEC5E-922E-4BFC-A78B-FF3E302E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3AF4C-0579-46CF-B011-D6143CAC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3CB95-B7BC-4FDF-A0F7-809FBDD1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ADB15-489E-4730-B483-EDEA9F71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59170-CBBE-4580-8849-25CCC16A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01FD-C520-4D55-AAB7-E9C7BB6E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118F6-2270-452A-81A5-6DCB1E6B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6EB74-B163-411C-81E0-A3D353FB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96016-644C-4BD6-9C23-226E7410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D927B-8793-42A9-A5DD-2D42AD58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F54F0-5249-4BC8-A5BF-0011A254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CB899-8D06-408D-93A8-C472C986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C89BD-CE7E-4D5C-B53E-BC087CDC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F4552-C2BA-4CD1-A649-7B979AA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E1E8F-63E2-49C7-8FBD-34A8B981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51556-FF5B-4099-892B-AA24E829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9731-3452-422A-9785-9180C86D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AA0B3-C524-4A1C-9662-8E064323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3BF0B-E975-4EAF-B568-F382AEA5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8AAED-F917-4343-A83F-F05879A9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FB38C-3C36-4861-A42C-28778F1C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DCBF4-3C62-4FD9-935D-2EF32C5E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D8B40-094A-4D7D-AF37-49A72166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A9924-052F-43AE-9E44-705454B5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764F0-EBA2-4931-861E-4B419CB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C3C47-7F61-4FD7-8A03-E81707F8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8E867-68D9-4D87-9D17-ED00D69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C3F8-E04B-4067-A9B6-5A144F78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E4501-F537-4C6E-B3E4-AED4200A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60AF1-CE88-4B00-88D1-8731BB94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F5F40-A2C6-4507-80F3-9D364B0D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EC2D5-20BD-4124-9EE2-4251775B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7044B-24B4-4862-ACB9-9B71521D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66735-6C40-4606-8DA2-4C2A8905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671CA-19AD-4D2C-A8FC-892191E7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90D56-6D23-4188-B19F-399A56E9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0CA9E-370A-45DE-AC71-11C22989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683D5-D063-4CF3-A877-7B6F57A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39B-798A-4098-9AEF-149C96AB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99CE-18B8-4432-8B5B-6CEA84FE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A7204-358E-4EF5-8D79-D99231DD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5DAA7-F84B-4BB4-8764-1ADCBB9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0C168-E225-4F55-894A-8085AC52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8E2A2-394D-4A15-832E-A1426E51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1217C-3C8D-436B-BCD5-2E5CF224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C90593-CDB3-468A-A156-C3004172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19908-4F54-423E-B1F1-A4259D3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FA0E3-1173-4C53-9A14-061C7AE1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246B1-DF4E-406B-ADAC-F26AA7BF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B7E26-3BE9-447E-B666-C00ECFFC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DD9B-2FA4-41CD-AD66-47AAE65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A0F5B-620A-4609-ADAF-BEEB7026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BB863-F2D0-447F-9397-A99CB71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17BA6-6710-42D8-B96E-E79A720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6EF6F-9C50-4026-AA9B-658E4A2C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F5235-8A5E-4378-A124-DE735676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FD431-D581-4B82-B23E-61F5D953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540961-D508-4988-B20C-C742E665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694A-DAD7-4D3C-B5D9-47A2B444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52DB-6CB5-46F4-AE5D-7977832B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F91A-8826-4288-A8A6-AF7EAA7A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FB24-9534-4DA4-B8B7-0691A695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C9C1-3C37-4F98-B83A-02016F29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14EF-45B3-4D81-B514-D935F5F3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C22E-4666-4390-B97B-E98DF384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41BC-0868-42AF-9A70-CC8A56D0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65F-7DCF-4367-8CA4-CA4AC1F9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BB7C-502F-4392-AA18-E8954EDD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001B-8557-4707-A0D3-5335109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9BDE-5766-4A08-8796-94A1D05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5A4E-58B1-4C98-BE4A-40585C1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F731-7D3B-43F1-A50A-9155322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0CD51-A075-4EA2-B50D-35421ACA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29F5-D98F-443A-BC20-8CAAC8F6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26AC-B8D1-4FEB-AF8B-C3AF9052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FB2B-524A-49A0-A204-CE07B988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1E7E4-F64B-4E2C-90AF-17A8974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D15-6958-4A57-9632-A7AF1FB9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3E91-7A17-4320-8F88-80947563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391AB-8E3B-4950-8235-89F41405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2E96-9F16-445E-83E1-DDA96A4C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E647-6408-404C-970D-F9A9ACC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85DB-C765-4544-BD83-C9CD08F7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224F-A285-42B6-8C60-E6F34F0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72FD9-7866-4ED4-BA97-CC4328AC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24BF1-A562-4704-AE63-16AF9863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5B8E-32B8-4C43-930B-9EECD92F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16A61-077B-489F-90AF-55F5E27B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5F9-94CC-4004-B45D-F390902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9206-A864-4E61-A452-EE2C3B6E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8E70-727E-437B-884C-37CD16C5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67E74-F3A8-42AC-BCFE-607F20DB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D6F58-EC3B-41A1-AFE2-DB1C545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1605-3AA8-409C-850F-0A9D23B3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85F29-5E97-4FEB-95A0-9060A87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94F4-4515-4B96-853E-5C34227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70622-03A5-4B75-899C-1CC34C3F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CEA5-47B8-4FDB-AFB5-2EFF4AFD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5C57-E63C-4216-84A9-AD8C8207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B49-4376-4C27-B4D3-67157FF8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A8377-47BB-44FE-AC45-5BBD049C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8CFE-C930-4891-A152-E991AEFD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1CF75-BAC4-4A83-A2A7-AA52931F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06165-14C4-4C04-858D-79165A39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D7F8-7C7E-40A0-B067-5DB4D70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F4AA-C09C-4864-BEFB-55B960BB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2D99D-FC1E-403D-9361-0406F17C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A9CF-F853-4426-8769-C4183064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AD036-78F5-4CD7-93CD-3BDA7994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849E-BF43-4C20-B967-2C196268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575-297F-4860-8654-DE2C047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B59E-D9FA-4FD1-8FF3-5616EBF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A109-2BF1-4C48-81CE-90782B1E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66607-8F31-400B-8687-47E4F42B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630AD-C59B-41D3-ADE7-DFF61B79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08637-E99B-4BA2-A26B-31362865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B4947-6251-44F4-83A4-2A384D4F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ED307-9F29-4215-91BF-C010F4CC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2A786-8136-4836-A40B-B9B4A62A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86CF-2A2A-4B62-995A-F2639B72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EF65C-AD2C-4FBB-BFA1-125C9EAD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02B-9C0A-446F-ACB3-344F7CCF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26666-1182-40BA-BEBD-58C499BA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C9E8E-9A41-470D-AC36-B535BCA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AE89B-C320-4D94-8349-61388386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34D7F-9287-44A4-A1E8-448781BA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F547C-81A3-4B72-BB74-76D6EF7E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2E61C-D321-49D3-87D7-F6C7384F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45115-3279-4E20-B548-F294F620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A7FA-7562-4540-8AAB-CA73402D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A011-11AE-4AD6-88CC-BC3244E0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16F0B-FED1-456F-8FC7-1C0F6171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814-6440-4317-B4E1-5B417AFB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47591-DEF2-488D-B031-959C68DC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8C25E-09A3-40A6-A922-9165417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FDA3E-2D66-4E17-8A85-AF7BD483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7AD9B-D923-4561-B6BB-68118D25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FC85-B0EE-46D6-B1E1-22D05438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D8797-79A3-402D-BD50-BF6829B4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1F79D-B816-4D96-A5B6-198B2BF3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CC3AC-2D1B-4FCF-87D6-1DEC229D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4E990-3EF6-461F-8117-9A7F19A0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00857-2CEF-4981-8955-B535BF7F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3337-04F7-4825-8FF1-156CD626B97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4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FD81-126E-4E85-9386-5742ECB87A7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6AF5-3886-430F-B507-D73151C159C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8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37D7-DFC3-48DF-A462-3475CDDCA90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5C51-377E-428D-B3BF-7BCEC37C955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938C-1544-458F-B606-7BF34821A1E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FF0C-7E65-4C6F-AA59-07A2DFA186B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B6DB-A2FE-4385-949D-9E784017ED9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5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5300-222E-4CCB-BA1B-F0397326897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5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5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5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7815-622F-4DFF-91E0-D71BA80BEAE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magen 34" descr=""/>
          <p:cNvPicPr/>
          <p:nvPr/>
        </p:nvPicPr>
        <p:blipFill>
          <a:blip r:embed="rId3"/>
          <a:stretch/>
        </p:blipFill>
        <p:spPr>
          <a:xfrm>
            <a:off x="7810560" y="1440"/>
            <a:ext cx="1341360" cy="1322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B590-1223-443B-8690-4A3862FA888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F6F4-FA46-4D75-BE1B-AAC2B5D75D8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F17F-D516-4F55-B683-94AA7861944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BAB0-9CD0-4A1B-A3FF-0CB3E4288EC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6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854F-A2EB-40CB-BCEB-701307610AE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3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98CF-0EA5-458C-9723-8D1BA60E44A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D2E3-AF65-4049-AB2A-141042E9966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FA51-6755-4511-BEB6-C78C63DC2B0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logs.ya.com/conunpardealas/files/Mafalda_03_E.jpg&amp;imgrefurl=http://ilusionesvanas.blogspot.com/2007/11/esto-no-tiene-ttulo.html&amp;h=281&amp;w=213&amp;sz=15&amp;hl=es&amp;start=10&amp;um=1&amp;tbnid=gz32u7cbhLFHLM:&amp;tbnh=114&amp;tbnw=86&amp;prev=/images%3Fq%3Dmafalda%26um%3D1%26hl%3Des%26rls%3DGGLG,GGLG:2006-14,GGLG:es%26sa%3DX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371600" y="337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 Rounded MT Bold"/>
              </a:rPr>
              <a:t>Estratexias para a educación social e educativa do alumnado con Trastornos do Espectro do Autismo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859280" y="4941360"/>
            <a:ext cx="428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Century Gothic"/>
              </a:rPr>
              <a:t>CFR Pontevedr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Century Gothic"/>
              </a:rPr>
              <a:t>8 de outubro do 2015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Century Gothic"/>
              </a:rPr>
              <a:t>Manoel Baña Castr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4" name="Picture 5" descr="Mafalda_03_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08640"/>
            <a:ext cx="1771560" cy="2349360"/>
          </a:xfrm>
          <a:prstGeom prst="rect">
            <a:avLst/>
          </a:prstGeom>
          <a:ln w="0">
            <a:noFill/>
          </a:ln>
        </p:spPr>
      </p:pic>
      <p:pic>
        <p:nvPicPr>
          <p:cNvPr id="1265" name="Imagen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Palatino Linotype"/>
              </a:rPr>
              <a:t>A escola inclusiva coa familia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1943280" y="1915920"/>
            <a:ext cx="68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Monotype Corsiva"/>
              </a:rPr>
              <a:t>Dar seguridade e confianza; garantizar continuidade de procesos; fomentar a participación; consideralos “aliados”no proceso educativo; non consideralos “culpables” do que lle sucede ao seu fillo/a; Axustarnos a cada familia e situación persoal; implicacións das diversas entidades para programas de inclusión, aprender a ter en conta as suas opinións e suxerencias, concienciación social......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54120" y="583920"/>
            <a:ext cx="7850160" cy="1701720"/>
          </a:xfrm>
          <a:prstGeom prst="rect">
            <a:avLst/>
          </a:prstGeom>
          <a:noFill/>
          <a:ln w="0">
            <a:noFill/>
          </a:ln>
        </p:spPr>
        <p:txBody>
          <a:bodyPr tIns="35280" anchor="t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5359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Century Gothic"/>
              </a:rPr>
              <a:t>O COMPORTAMENTO COMO COMUNICACIÓN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Text Box 2"/>
          <p:cNvSpPr/>
          <p:nvPr/>
        </p:nvSpPr>
        <p:spPr>
          <a:xfrm>
            <a:off x="2125800" y="3335400"/>
            <a:ext cx="67561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úa cando suceden dificultades na comunicación huma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e ter unha aprendizaxe amplia e duradeir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584000" y="257040"/>
            <a:ext cx="7165800" cy="1702080"/>
          </a:xfrm>
          <a:prstGeom prst="rect">
            <a:avLst/>
          </a:prstGeom>
          <a:noFill/>
          <a:ln w="0">
            <a:noFill/>
          </a:ln>
        </p:spPr>
        <p:txBody>
          <a:bodyPr tIns="3528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Century Gothic"/>
              </a:rPr>
              <a:t>Comportamentos desadaptativo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522000" y="2808360"/>
            <a:ext cx="404964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-293760">
              <a:spcBef>
                <a:spcPts val="1001"/>
              </a:spcBef>
              <a:buClr>
                <a:srgbClr val="a5301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Con os que suceden sobre todo para evitar situaciones desagradables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4037040" y="2612880"/>
            <a:ext cx="4911840" cy="32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619280" y="388440"/>
            <a:ext cx="7067520" cy="1700280"/>
          </a:xfrm>
          <a:prstGeom prst="rect">
            <a:avLst/>
          </a:prstGeom>
          <a:noFill/>
          <a:ln w="0">
            <a:noFill/>
          </a:ln>
        </p:spPr>
        <p:txBody>
          <a:bodyPr tIns="3528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Century Gothic"/>
              </a:rPr>
              <a:t>O comportamento pode servir para acceder a cosas concretas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653760" y="2678040"/>
            <a:ext cx="80326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-293760">
              <a:spcBef>
                <a:spcPts val="1001"/>
              </a:spcBef>
              <a:buClr>
                <a:srgbClr val="a5301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Obter ou recuperar obxetos desexados ou actividades favorita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94" name="Picture 3" descr=""/>
          <p:cNvPicPr/>
          <p:nvPr/>
        </p:nvPicPr>
        <p:blipFill>
          <a:blip r:embed="rId1"/>
          <a:stretch/>
        </p:blipFill>
        <p:spPr>
          <a:xfrm>
            <a:off x="2498760" y="3749760"/>
            <a:ext cx="442584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584000" y="603360"/>
            <a:ext cx="7088040" cy="17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766f54"/>
                </a:solidFill>
                <a:latin typeface="Century Gothic"/>
              </a:rPr>
              <a:t>Dificultades de comportamento ou comportamentos disfuncionais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1820880" y="3234960"/>
            <a:ext cx="6851520" cy="32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Conforme se desenvolve os nenos e nenas van deixando de utilizar o comportamento como forma de comunicación prioritaria.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Cando xurde unha dificultade na comunicación soen utilizar o seu comportamento como comunicación facendoo mais complexo e disfuncional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527600" cy="8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900" spc="-1" strike="noStrike">
                <a:solidFill>
                  <a:srgbClr val="262626"/>
                </a:solidFill>
                <a:latin typeface="Century Gothic"/>
              </a:rPr>
              <a:t>Dificultades de comportamento e comunicación disfuncional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CuadroTexto 3"/>
          <p:cNvSpPr/>
          <p:nvPr/>
        </p:nvSpPr>
        <p:spPr>
          <a:xfrm>
            <a:off x="1558800" y="2108160"/>
            <a:ext cx="69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alkington y Hall (1969)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lacionaron os trastornos de comunicación e os problemas de comportamiento e concluien que soen actuar como métodos de comunicación primitivos por dificultades nos procesos comunicativos compl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alkington, Hall y Altman (1971) analizaron u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rupo de suxetos con alteracións do desenvolvemento intelectual e atoparon unha gran variedade de habilidades comunicativas así como a relación entre as poucas habilidades de comunicación e a agresividade ma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tevenson y Richman (1978)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alizando un grupo de nenos e nenas de 3 anos con retraso do inicio da fala atoparon menos habilidades comunicativas e maiores dificultades e problemas de comportamento considerándoso como agresivos, pouco colaboradores ou agre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836720" y="420840"/>
            <a:ext cx="68659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Century Gothic"/>
              </a:rPr>
              <a:t>A intervención no comportamento disfuncional ou problemático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968480" y="1611360"/>
            <a:ext cx="6532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404040"/>
                </a:solidFill>
                <a:latin typeface="Century Gothic"/>
              </a:rPr>
              <a:t>O comportamento actúa como unha forma inicial de comunicación sustituíndo outras vías mais complexas coas que influir sobre outros e outras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404040"/>
                </a:solidFill>
                <a:latin typeface="Century Gothic"/>
              </a:rPr>
              <a:t>Dous aspectos a ter en conta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404040"/>
                </a:solidFill>
                <a:latin typeface="Century Gothic"/>
              </a:rPr>
              <a:t>Non existe fala polo que a influencia sobre os outros/as fai en función destes comportamentos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404040"/>
                </a:solidFill>
                <a:latin typeface="Century Gothic"/>
              </a:rPr>
              <a:t>A aprendizaxe de comportamentos disfuncionais como recurso habitual de influir nas demais persoas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404040"/>
                </a:solidFill>
                <a:latin typeface="Century Gothic"/>
              </a:rPr>
              <a:t>Plantexa a hipótese de que un comportamento inadecuado está funcionando como unha forma de comunicación disfuncional polo que é necesario establecer a finalidade e o obxeto do mesmo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404040"/>
                </a:solidFill>
                <a:latin typeface="Century Gothic"/>
              </a:rPr>
              <a:t>Establece unha forma útil e constructiva de facer fronte ás dificultades de comportamento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741320" y="485280"/>
            <a:ext cx="63360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Century Gothic"/>
              </a:rPr>
              <a:t>A intervención no comportamento problemático a través da comunicación funcional</a:t>
            </a:r>
            <a:r>
              <a:rPr b="0" lang="es-ES" sz="2000" spc="-1" strike="noStrike">
                <a:solidFill>
                  <a:srgbClr val="262626"/>
                </a:solidFill>
                <a:latin typeface="Century Gothic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Elipse 3"/>
          <p:cNvSpPr/>
          <p:nvPr/>
        </p:nvSpPr>
        <p:spPr>
          <a:xfrm>
            <a:off x="652320" y="1752480"/>
            <a:ext cx="2914920" cy="2186280"/>
          </a:xfrm>
          <a:prstGeom prst="ellipse">
            <a:avLst/>
          </a:prstGeom>
          <a:gradFill rotWithShape="0">
            <a:gsLst>
              <a:gs pos="0">
                <a:srgbClr val="b14d3e"/>
              </a:gs>
              <a:gs pos="100000">
                <a:srgbClr val="9a2d0f"/>
              </a:gs>
            </a:gsLst>
            <a:lin ang="5400000"/>
          </a:gradFill>
          <a:ln cap="rnd" w="9360">
            <a:solidFill>
              <a:srgbClr val="9d2d0f"/>
            </a:solidFill>
            <a:miter/>
          </a:ln>
          <a:effectLst>
            <a:outerShdw dist="1260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forzo de  habilidades comun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Elipse 4"/>
          <p:cNvSpPr/>
          <p:nvPr/>
        </p:nvSpPr>
        <p:spPr>
          <a:xfrm>
            <a:off x="5222880" y="1752480"/>
            <a:ext cx="3346560" cy="2186280"/>
          </a:xfrm>
          <a:prstGeom prst="ellipse">
            <a:avLst/>
          </a:prstGeom>
          <a:gradFill rotWithShape="0">
            <a:gsLst>
              <a:gs pos="0">
                <a:srgbClr val="b14d3e"/>
              </a:gs>
              <a:gs pos="100000">
                <a:srgbClr val="9a2d0f"/>
              </a:gs>
            </a:gsLst>
            <a:lin ang="5400000"/>
          </a:gradFill>
          <a:ln cap="rnd" w="9360">
            <a:solidFill>
              <a:srgbClr val="9d2d0f"/>
            </a:solidFill>
            <a:miter/>
          </a:ln>
          <a:effectLst>
            <a:outerShdw dist="1260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Comportamento funcional e adapt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CuadroTexto 11"/>
          <p:cNvSpPr/>
          <p:nvPr/>
        </p:nvSpPr>
        <p:spPr>
          <a:xfrm>
            <a:off x="1049400" y="4537080"/>
            <a:ext cx="720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Xenerando a unidade de comunicación apropiada (expresións, preguntas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envolvendo formas de comunicación relevant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isminución dos comportamentos problem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Flecha izquierda y derecha 2"/>
          <p:cNvSpPr/>
          <p:nvPr/>
        </p:nvSpPr>
        <p:spPr>
          <a:xfrm>
            <a:off x="3787920" y="2517840"/>
            <a:ext cx="1215720" cy="485640"/>
          </a:xfrm>
          <a:prstGeom prst="leftRightArrow">
            <a:avLst>
              <a:gd name="adj1" fmla="val 50000"/>
              <a:gd name="adj2" fmla="val 49881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258920" y="447840"/>
            <a:ext cx="6424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Century Gothic"/>
              </a:rPr>
              <a:t>A intervención no comportamento problemático a través da comunicación funcional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CuadroTexto 7"/>
          <p:cNvSpPr/>
          <p:nvPr/>
        </p:nvSpPr>
        <p:spPr>
          <a:xfrm>
            <a:off x="4937040" y="1911240"/>
            <a:ext cx="36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vocando efectos positivos noutros contextos e situació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Flecha derecha 15"/>
          <p:cNvSpPr/>
          <p:nvPr/>
        </p:nvSpPr>
        <p:spPr>
          <a:xfrm>
            <a:off x="984240" y="1911240"/>
            <a:ext cx="3168720" cy="1201680"/>
          </a:xfrm>
          <a:prstGeom prst="rightArrow">
            <a:avLst>
              <a:gd name="adj1" fmla="val 64269"/>
              <a:gd name="adj2" fmla="val 89154"/>
            </a:avLst>
          </a:prstGeom>
          <a:solidFill>
            <a:srgbClr val="b4bcaa"/>
          </a:solidFill>
          <a:ln cap="rnd" w="9360">
            <a:solidFill>
              <a:srgbClr val="6d8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entury Gothic"/>
              </a:rPr>
              <a:t>1º: XERALIZ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Flecha izquierda 16"/>
          <p:cNvSpPr/>
          <p:nvPr/>
        </p:nvSpPr>
        <p:spPr>
          <a:xfrm>
            <a:off x="4937040" y="4422600"/>
            <a:ext cx="3168720" cy="1200240"/>
          </a:xfrm>
          <a:prstGeom prst="leftArrow">
            <a:avLst>
              <a:gd name="adj1" fmla="val 61435"/>
              <a:gd name="adj2" fmla="val 87721"/>
            </a:avLst>
          </a:prstGeom>
          <a:solidFill>
            <a:srgbClr val="b4bcaa"/>
          </a:solidFill>
          <a:ln cap="rnd" w="9360">
            <a:solidFill>
              <a:srgbClr val="6d8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Century Gothic"/>
              </a:rPr>
              <a:t>2º MANT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CuadroTexto 17"/>
          <p:cNvSpPr/>
          <p:nvPr/>
        </p:nvSpPr>
        <p:spPr>
          <a:xfrm>
            <a:off x="984240" y="4238640"/>
            <a:ext cx="395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endo que estes efectos sexan duradei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Xenerando mecanismos de autocontrol e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Establecer unha relación positiv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Supón a existencia de falante e ointes que queren interactuar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Si nos asociamos con actividades que a persoa valora a nosa presencia convertirase  en interesante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Unha vez que nos presta atención de foma consistente, debemos pretender que as persoas se acerquen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AVALIACIÓN PSICOPEDAGÓXI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Demanda e comprensión dos pais sobre o trastorno. O axuste de expectativas é aceptación é o primeiro paso para que os pais empecen a actuar de forma coherente. Sempre se pode mellorar e a experiencia en programas de atención temprana demóstranos que os resultados poden ser moi bos si a intervención é adecuada (Schuler, 2001; Jones, 2002; Lle Couteur, 2003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xuda ás familias na educación e convivencia o que significa tomar decisións e asesorar en función de cada familia e situació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331640" y="549360"/>
            <a:ext cx="658980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262626"/>
                </a:solidFill>
                <a:latin typeface="Century Gothic"/>
              </a:rPr>
              <a:t>Facilitar o achegamento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Invitar ás persoa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493560" indent="-4935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Facer estables os achegamentos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493560" indent="-4935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Axudar de forma intermitente esperando o momento de solicitude de axud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493560" indent="-4935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Cando a persoa acude a miudo para facer peticións teremos o éxito aínda que os inoportune e sexa molesto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Facer agradables ás perso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1943280" y="2133360"/>
            <a:ext cx="70214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Non negando os sentimentos que conducen ao rechazo e evitamento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Enfrentarse a eles de forma activa buscando o que nos une, o positivo e os intereses compartido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Observar o  que é preciso cambear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Supervisar o éxito e as medidas para elo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3600" spc="-1" strike="noStrike">
                <a:solidFill>
                  <a:srgbClr val="262626"/>
                </a:solidFill>
                <a:latin typeface="Century Gothic"/>
              </a:rPr>
              <a:t>Elexir as formas de comunicación efica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2195280" y="270792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2000" spc="-1" strike="noStrike">
                <a:solidFill>
                  <a:srgbClr val="404040"/>
                </a:solidFill>
                <a:latin typeface="Century Gothic"/>
              </a:rPr>
              <a:t>Facilidade de realización e comprensión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2000" spc="-1" strike="noStrike">
                <a:solidFill>
                  <a:srgbClr val="404040"/>
                </a:solidFill>
                <a:latin typeface="Century Gothic"/>
              </a:rPr>
              <a:t>Adaptarse ás persoas e a sua forma de entender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2000" spc="-1" strike="noStrike">
                <a:solidFill>
                  <a:srgbClr val="404040"/>
                </a:solidFill>
                <a:latin typeface="Century Gothic"/>
              </a:rPr>
              <a:t>Seleccionar formas funcionais que permitan a sua interpretación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2000" spc="-1" strike="noStrike">
                <a:solidFill>
                  <a:srgbClr val="404040"/>
                </a:solidFill>
                <a:latin typeface="Century Gothic"/>
              </a:rPr>
              <a:t>Millorar a linguaxe comprensiva ensinando formas de comunicación expresiva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2000" spc="-1" strike="noStrike">
                <a:solidFill>
                  <a:srgbClr val="404040"/>
                </a:solidFill>
                <a:latin typeface="Century Gothic"/>
              </a:rPr>
              <a:t>Supervisar o éxito de cada actividade ou  sesión</a:t>
            </a: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3600" spc="-1" strike="noStrike">
                <a:solidFill>
                  <a:srgbClr val="262626"/>
                </a:solidFill>
                <a:latin typeface="Century Gothic"/>
              </a:rPr>
              <a:t>CREAR UN CONTEXTO APROPIAD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Facilitando a actividade e a interactividade con outras perso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Facendo sentirse importantes sendo receptivo e activ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Facendo que valga a pena comunicars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Facilitando a xeralización do que se aprende á vida propia nunha educación con sentid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Creando oportunidades de comunicación e expresió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Proporcionando alternativas e eleccións facendo sentirse valorada á perso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PRINCIPI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OBXECTIVO:  propiciar-la comunicación mediante a acción indirecta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Facilitarlle o disfrute dos beneficios da comunicación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Temos que combatir, non só as dificultades de comunicación senon a nosa propia reacción ao seu comportamento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A maneira en que logre comunicarse vai a afectar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ó que él sinta de si mesm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As súas posibilidades para aprende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FORMULA 3 </a:t>
            </a:r>
            <a:r>
              <a:rPr b="0" lang="es-ES" sz="6000" spc="-1" strike="noStrike">
                <a:solidFill>
                  <a:srgbClr val="262626"/>
                </a:solidFill>
                <a:latin typeface="Century Gothic"/>
              </a:rPr>
              <a:t>a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Este método concéntrase nas interacciones responsables que axudan a comunicarse e a aprender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DEBEMOS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404040"/>
                </a:solidFill>
                <a:latin typeface="Century Gothic"/>
              </a:rPr>
              <a:t>a</a:t>
            </a: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ceptar que tome a iniciativ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404040"/>
                </a:solidFill>
                <a:latin typeface="Century Gothic"/>
              </a:rPr>
              <a:t>a</a:t>
            </a: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daptarnos para “comparti-lo momento”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404040"/>
                </a:solidFill>
                <a:latin typeface="Century Gothic"/>
              </a:rPr>
              <a:t>a</a:t>
            </a: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gregar linguaxe e experienci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EDUCADOR= COMPAÑEIRO SENSIB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943280" y="2133360"/>
            <a:ext cx="70214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DAR TEMPO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PENSEMOS CANDO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Falamos sin paus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Axudamos cando non é necesari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Diriximos os xog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Interrumpim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Supoñemos que sabemos o que o neno quere deci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entury Gothic"/>
              </a:rPr>
              <a:t>NECESITASE TEMPO PARA OBSERVAR, ESPERAR E ESCOITAR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8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9"/>
          <p:cNvSpPr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66f54"/>
                </a:solidFill>
                <a:latin typeface="Times New Roman"/>
              </a:rPr>
              <a:t>CAPÍTU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10"/>
          <p:cNvSpPr/>
          <p:nvPr/>
        </p:nvSpPr>
        <p:spPr>
          <a:xfrm>
            <a:off x="10666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1"/>
          <p:cNvSpPr/>
          <p:nvPr/>
        </p:nvSpPr>
        <p:spPr>
          <a:xfrm>
            <a:off x="2090880" y="1981080"/>
            <a:ext cx="659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301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epte que tome a inici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301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áptese para “comparti-lo mom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301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regue linguaxe e exper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301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oguemos ó estilo 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301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ogos para divertirse e ap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301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guesemos coa mú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301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amos xu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301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ndo xuntos: a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1. ACEPTE QUE TOME A INICIATIV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entury Gothic"/>
              </a:rPr>
              <a:t>OBSERVAR... </a:t>
            </a: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os intereses e sentimento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entury Gothic"/>
              </a:rPr>
              <a:t>ESPERAR...</a:t>
            </a: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 e ver o que vai a facer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entury Gothic"/>
              </a:rPr>
              <a:t>ESCOITAR...</a:t>
            </a: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 e tratar de entender o que está querendo decir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Axudante: negalle a oportunidade que que o neno aprenda intentando facelo ou decilo só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Con Presa: non ten tempo de esperar para que o fillo fale e termina monologando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Maestro: o neno aprende cando él mesmo fai as cousas e non cando algúen lle dí como facelas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EXEMPL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En lugar de mandar... Trate de observar, esperar e escoita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En lugar de impoñer...trate de recoñece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En lugar de dominar...trate de ser sensi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En lugar de asumir que usted sabe...trate de deixar que a nena decid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AVALIACIÓN PSICOPEDAGÓXI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nalizar as demandas e determinalos os apoios necesarios:</a:t>
            </a:r>
            <a:br>
              <a:rPr sz="1800"/>
            </a:b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erfil: Profesor Terapéutico de Pedagoxía (PT), Profesor de Audición e Linguaxe (AL)</a:t>
            </a:r>
            <a:r>
              <a:rPr b="0" lang="es-ES_tradnl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: </a:t>
            </a: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tensidade: intermitente, limitado, extenso, xeralizad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Organización do apoio e coordinación cos profesionais e familia con respecto á educación. Os programas de desenvolvemento Persoal son unha boa Estratexi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troducir ao centro na dinámica de inclusión propost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2. ADÁPTESE PARA COMPARTIR O MOMENT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VOSTEDE AXUDA A QUE COMPARTA O MOMENTO CANDO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entury Gothic"/>
              </a:rPr>
              <a:t>Xoga cara a cara co neno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entury Gothic"/>
              </a:rPr>
              <a:t>Imitao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entury Gothic"/>
              </a:rPr>
              <a:t>Interpreta o que fai cando él non o dí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entury Gothic"/>
              </a:rPr>
              <a:t>Comenta o que está pasando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entury Gothic"/>
              </a:rPr>
              <a:t>Toma turnos no diálogo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entury Gothic"/>
              </a:rPr>
              <a:t>Fai boas pregunta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EXEMPL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En lugar de falarlle á parede...trate de chamar ó seu fill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En lugar de dar sempre órdenes...trate de dar opció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En lugar de regañar...trate de comparti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Century Gothic"/>
              </a:rPr>
              <a:t>En lugar de interrogar.. esté disposto a agardar unha respost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262626"/>
                </a:solidFill>
                <a:latin typeface="Century Gothic"/>
              </a:rPr>
              <a:t>Agregar linguaxe e experiencia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172880" y="1700280"/>
            <a:ext cx="8031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Empatía</a:t>
            </a: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: escoita activa, linguaxe, o hum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Negociar o problema</a:t>
            </a: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: priorizar,pequenos paso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Solucións intentadas</a:t>
            </a: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: máis do mesmo, o que non funciona cambia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Excepció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Enfoque ó futur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Reenmarcar</a:t>
            </a: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: narrativa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Intervención na paut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Intervencións paradóxicas</a:t>
            </a: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: “coidado”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Vende-la tarefa </a:t>
            </a:r>
            <a:r>
              <a:rPr b="0" lang="es-ES" sz="2400" spc="-1" strike="noStrike">
                <a:solidFill>
                  <a:srgbClr val="404040"/>
                </a:solidFill>
                <a:latin typeface="Century Gothic"/>
              </a:rPr>
              <a:t>: eloxio, prescripc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750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IDENTIFIQUE O NIVEL NO QUE ESTÁ </a:t>
            </a:r>
            <a:br>
              <a:rPr sz="3600"/>
            </a:br>
            <a:r>
              <a:rPr b="1" lang="es-ES" sz="3200" spc="-1" strike="noStrike">
                <a:solidFill>
                  <a:srgbClr val="262626"/>
                </a:solidFill>
                <a:latin typeface="Century Gothic"/>
              </a:rPr>
              <a:t>A comunicación desenvólvese pouco a pouco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268360" y="2923920"/>
            <a:ext cx="6591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entury Gothic"/>
              </a:rPr>
              <a:t>NIVEL I</a:t>
            </a: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: comunícanse a través da expresión corporal e o parloteo. Os adultos interpretamos os séus sons e movimentos como comunicació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entury Gothic"/>
              </a:rPr>
              <a:t>NIVEL II: </a:t>
            </a: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ás súas expresións faciais e os seus xestos son fáciles de comprender, emiten sonidos de vocales e consoantes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entury Gothic"/>
              </a:rPr>
              <a:t>NIVEL III: </a:t>
            </a: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establecen contacto, interactúan, piden información, atención, axuda, aprobación, palabras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entury Gothic"/>
              </a:rPr>
              <a:t>NIVEL IV: </a:t>
            </a: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combinan palabras con seña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entury Gothic"/>
              </a:rPr>
              <a:t>NIVEL V: </a:t>
            </a:r>
            <a:r>
              <a:rPr b="0" lang="es-ES" sz="2000" spc="-1" strike="noStrike">
                <a:solidFill>
                  <a:srgbClr val="404040"/>
                </a:solidFill>
                <a:latin typeface="Century Gothic"/>
              </a:rPr>
              <a:t>fan oracións. É o obxectivo fina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Palatino Linotype"/>
              </a:rPr>
              <a:t>COA INCLUSION TEMOS QUE FOMENTAR: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563640" y="27432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Monotype Corsiva"/>
              </a:rPr>
              <a:t>Desenvolvemento persoal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Monotype Corsiva"/>
              </a:rPr>
              <a:t>Benestar emocional, físico e material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Monotype Corsiva"/>
              </a:rPr>
              <a:t>Autodeterminación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Monotype Corsiva"/>
              </a:rPr>
              <a:t>Inclusión social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Monotype Corsiva"/>
              </a:rPr>
              <a:t>Dereitos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Monotype Corsiva"/>
              </a:rPr>
              <a:t>En definitiva CALIDADE DE VIDA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54356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3600" spc="-1" strike="noStrike">
                <a:solidFill>
                  <a:srgbClr val="262626"/>
                </a:solidFill>
                <a:latin typeface="Century Gothic"/>
              </a:rPr>
              <a:t>En conclusión, educar para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500" spc="-1" strike="noStrike">
                <a:solidFill>
                  <a:srgbClr val="404040"/>
                </a:solidFill>
                <a:latin typeface="Century Gothic"/>
              </a:rPr>
              <a:t>AUTODETERMINACIÓN ou CAPACIDADE DE DECISIÓN DA PROPIA VIDA, DOS PROPIOS ACTOS E CONSECUENCIA DELES. Unha combinación de habilidades, coñecemento e crenzas que capacitan a unha persoa para comprometerse nunha conduta autónoma, autorregulada e dirixida a unha meta. Para a autodeterminación é esencial a comprensión das forzas e dificultades dun mesmo, xunto coa crenza de que se é capaz e efectivo. Cando actuamos sobre as bases destas habilidades e actitudes, as persoas teñen máis capacidade para tomar o control das súas vidas e asumir o papel de adultos con éxito (Field, Martin, Milleiro, Ward e Wehmeyer, 1998; 2006, 2009). </a:t>
            </a:r>
            <a:br>
              <a:rPr sz="1500"/>
            </a:br>
            <a:r>
              <a:rPr b="0" lang="gl-ES" sz="15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500" spc="-1" strike="noStrike">
                <a:solidFill>
                  <a:srgbClr val="404040"/>
                </a:solidFill>
                <a:latin typeface="Century Gothic"/>
              </a:rPr>
              <a:t>CALIDADE DE VIDA: benestar emocional, material e físico, relacións interpersonais, desenvolvemento persoal, inclusión social e a autodeterminación (Schuler, 2001; Jones, 2002; Lle Couteur, 2003; Schalock, 2007, 2015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262626"/>
                </a:solidFill>
                <a:latin typeface="Tahoma"/>
              </a:rPr>
              <a:t>Educar a unha Persoa con Tea é educar na diferenza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2268360" y="2636640"/>
            <a:ext cx="6591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</a:rPr>
              <a:t>É</a:t>
            </a: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 entender que si os nenos non te</a:t>
            </a:r>
            <a:r>
              <a:rPr b="0" lang="es-MX" sz="2400" spc="-1" strike="noStrike">
                <a:solidFill>
                  <a:srgbClr val="404040"/>
                </a:solidFill>
                <a:latin typeface="Century Gothic"/>
              </a:rPr>
              <a:t>ñ</a:t>
            </a: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en acceso a situaci</a:t>
            </a:r>
            <a:r>
              <a:rPr b="0" lang="es-MX" sz="2400" spc="-1" strike="noStrike">
                <a:solidFill>
                  <a:srgbClr val="404040"/>
                </a:solidFill>
                <a:latin typeface="Century Gothic"/>
              </a:rPr>
              <a:t>ó</a:t>
            </a: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ns normais, non ter</a:t>
            </a:r>
            <a:r>
              <a:rPr b="0" lang="es-MX" sz="2400" spc="-1" strike="noStrike">
                <a:solidFill>
                  <a:srgbClr val="404040"/>
                </a:solidFill>
                <a:latin typeface="Century Gothic"/>
              </a:rPr>
              <a:t>á</a:t>
            </a: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n nunca a oportunidade de aprender o que se fai nela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A oportunidade de aprender debe ser independente das suas necesidad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5796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262626"/>
                </a:solidFill>
                <a:latin typeface="Tahoma"/>
              </a:rPr>
              <a:t>Educar a unha persoa con TE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Tahoma"/>
              </a:rPr>
              <a:t>Debe partir do traballo das capacidades sempre. A través destas pódese conseguir solventar as discapacidades; Un dos factores fundamentais para ilo é o da autoestima: as capacidades xenerar unha percepción positiva e posibilitan o coñecement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Tahoma"/>
              </a:rPr>
              <a:t>Contar co apoio das persoas cercanas ó discapacitado, dando información, resolvendo dúvidas, aportando recursos..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Tahoma"/>
              </a:rPr>
              <a:t>Educar en inclus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628640" y="691920"/>
            <a:ext cx="572472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262626"/>
                </a:solidFill>
                <a:latin typeface="Palatino Linotype"/>
              </a:rPr>
              <a:t>Educar en INCLUSION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2124000" y="2060280"/>
            <a:ext cx="663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O sistema educativo cambea para que todos/as alumnos/as podan aprender en conxunto , participen e interactúen. Supón un proxecto de millora da escol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Todo o persoal do colexio ten responsabilidad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Préstase atención a que e como se ensina establecendo redes naturais de apoio e estratexias de intervención con todo o grup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Adáptase a aula e os entornos para todos/as alumnos/a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78000" y="620640"/>
            <a:ext cx="65880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262626"/>
                </a:solidFill>
                <a:latin typeface="Palatino Linotype"/>
              </a:rPr>
              <a:t>Para educar en inclusión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834920" y="2057400"/>
            <a:ext cx="66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404040"/>
                </a:solidFill>
                <a:latin typeface="Palatino Linotype"/>
              </a:rPr>
              <a:t>Superar MEDOS.-</a:t>
            </a:r>
            <a:r>
              <a:rPr b="0" lang="es-ES_tradnl" sz="2800" spc="-1" strike="noStrike">
                <a:solidFill>
                  <a:srgbClr val="404040"/>
                </a:solidFill>
                <a:latin typeface="Palatino Linotype"/>
              </a:rPr>
              <a:t> </a:t>
            </a:r>
            <a:r>
              <a:rPr b="0" lang="es-ES_tradnl" sz="1800" spc="-1" strike="noStrike">
                <a:solidFill>
                  <a:srgbClr val="404040"/>
                </a:solidFill>
                <a:latin typeface="Palatino Linotype"/>
              </a:rPr>
              <a:t>¿sabré facelo, non son especialista? ¿perderán outros? ..........</a:t>
            </a:r>
            <a:r>
              <a:rPr b="0" lang="es-ES_tradnl" sz="2800" spc="-1" strike="noStrike">
                <a:solidFill>
                  <a:srgbClr val="404040"/>
                </a:solidFill>
                <a:latin typeface="Palatino Linotype"/>
              </a:rPr>
              <a:t>Son producto da inseguridade, do medo ao descoñecido.......Superanse con Información e aprendendo a sentir oportunidade e non ameazas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404040"/>
                </a:solidFill>
                <a:latin typeface="Palatino Linotype"/>
              </a:rPr>
              <a:t>Desmitifacar METODOS</a:t>
            </a:r>
            <a:r>
              <a:rPr b="0" lang="es-ES_tradnl" sz="2800" spc="-1" strike="noStrike">
                <a:solidFill>
                  <a:srgbClr val="404040"/>
                </a:solidFill>
                <a:latin typeface="Palatino Linotype"/>
              </a:rPr>
              <a:t>.- </a:t>
            </a:r>
            <a:r>
              <a:rPr b="0" lang="es-ES_tradnl" sz="1800" spc="-1" strike="noStrike">
                <a:solidFill>
                  <a:srgbClr val="404040"/>
                </a:solidFill>
                <a:latin typeface="Palatino Linotype"/>
              </a:rPr>
              <a:t>pedimos fórmulas que garanticen o éxito.</a:t>
            </a: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  </a:t>
            </a:r>
            <a:r>
              <a:rPr b="0" lang="es-ES_tradnl" sz="2800" spc="-1" strike="noStrike">
                <a:solidFill>
                  <a:srgbClr val="404040"/>
                </a:solidFill>
                <a:latin typeface="Palatino Linotype"/>
              </a:rPr>
              <a:t>Aprendese a construilos desde a propia experiencia e do contraste cos demai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Palatino Linotype"/>
              </a:rPr>
              <a:t>A escola inclusiva co alumnado 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1116000" y="2163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Monotype Corsiva"/>
              </a:rPr>
              <a:t>Ter en conta o grupo e ofrecer apoios entre todos; estructurar e planificar pensando en todo o grupo, seus puntos fortes, necesidades... ; deseñar obxetivos e contidos multi-nivel; traballar por proxectos e talleres;crear figura de alumno titor; grupos flexibles; axuda mutua; ensinar a aceptar , convivir e apoiar as diferencias; ordenar o espacio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Monotype Corsiva"/>
              </a:rPr>
              <a:t> </a:t>
            </a:r>
            <a:r>
              <a:rPr b="0" lang="es-ES_tradnl" sz="2600" spc="-1" strike="noStrike">
                <a:solidFill>
                  <a:srgbClr val="404040"/>
                </a:solidFill>
                <a:latin typeface="Monotype Corsiva"/>
              </a:rPr>
              <a:t>aula con soportes visuais que estructuran a actividade e son un apoio mais na comunicación; educar nos distintos entornos da aula, colexio, comunidade; ofrecendo diferentes materiais para a aprendizaxe, respetando os ritmos e ofrecendo posibilidades a todos/as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65898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Palatino Linotype"/>
              </a:rPr>
              <a:t>A escola inclusiva co profesorado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763280" y="1965240"/>
            <a:ext cx="70563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Monotype Corsiva"/>
              </a:rPr>
              <a:t>Espacios e tempos de coordinación; traballo en equipo; apoios axustados; cultura de colaboración; obxetivos compartidos; desenvolver a formación interna; vencer a rixidez mental; aprender a reflexionar sobre aquelo que os alumnos necesitan aprender; creatividade para desenvolver estratexias de participación na aula e de aprendizaxe compartido; aprender a ter confianza en nos mesmos en aquelo que facemos; mantendo actitude positiva e “mediadora” cos alumnos e alumnas; avaliando de maneira permanente; aprender a recoñecelas capacidades e non só as dificultades do alumnado; aprender a observar para actuar de maneira adecuada; manter unha actitude de aprendizaxe permanente......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09:37:17Z</dcterms:created>
  <dc:creator>Manoel Baña Castro</dc:creator>
  <dc:description/>
  <dc:language>en-US</dc:language>
  <cp:lastModifiedBy>padana</cp:lastModifiedBy>
  <dcterms:modified xsi:type="dcterms:W3CDTF">2015-10-08T09:22:02Z</dcterms:modified>
  <cp:revision>34</cp:revision>
  <dc:subject/>
  <dc:title>XI Encontros Pedagóxicos da Mariña Luguesa</dc:title>
</cp:coreProperties>
</file>