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496-DA60-428C-9241-1394F23C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E08-944C-479D-B42E-01315459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41259-8333-4F3F-A776-230187BE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68FFF-A599-4748-9200-F30FF5F4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6B8B3-4570-4C03-A7F9-46F1972D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8CEC2-CEE6-4D3A-B127-D433E373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82A21-8931-4BC5-88BE-50E0E213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13CA6-081E-40EA-A828-7DB01442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4ED04-8AA8-418A-852E-55D6665B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972A3-D646-4756-9377-867ADA15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27BC0-6A39-4A8C-B655-4A71497B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5DF05-B067-4D75-8F02-8F2CF164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830-C456-4B91-8735-5D51C08F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85442-547F-4955-A723-91312F44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C6826-721A-49D5-8C08-9A8E45B0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2FDCF-6D9C-4A09-A16D-40F41EC8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FF0CA-690B-4204-BBF3-A6B6E39B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815B5-1F84-4D92-B63E-F9952C67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20BC6-8FCB-4D16-A69E-033D7978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3DB40-82B8-4266-9BB4-1970525F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3AC1B-00C9-40E7-9A32-D8F4CB1F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440CD-17DA-48D8-90EF-17519956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D161D-21BD-4FCB-B44A-CAEE4DF2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5D5-40C6-47A4-834E-B85B009D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C9017-F203-4E6A-B6BA-BC77CB86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FE593-0A5F-4A06-B8E2-EBAC78A5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1ECE5-8F3C-49DC-8D3F-5A6097C9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1FAEE-4FDE-4D9C-937C-299F7D5F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1F3EA-974A-49E9-B5EE-C0547B3E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55907-E6EA-4D92-B84B-C6B1034F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AC9EB-7354-4C7D-AFD4-513B8DE1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49410-C406-490D-8C2D-2FD23879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C919A-3393-428E-A79C-F192FD42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78972-1FB2-44F9-BE2A-5AB21EB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CFD9-DA15-4823-894C-8D77D71B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423A6-9D4F-4762-9DFA-BFD80092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FC19F-5141-40EF-8AD4-F5389D0C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A2D29-1CA4-450B-B4DC-EEA823D0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CC0AB-8ED4-43DF-9213-978F5A04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3C188-1E26-4CBE-8C4B-23780450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B72A5-342A-4DAF-BC64-E48E66DF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9E267-02FF-41D2-A0D3-F36A91D5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98773-6894-4A47-913F-C11FFDDF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F2068-8AC8-4DFE-8280-35378EBD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A0E02-7C8A-40B6-AA8E-5943413A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F012-2892-4008-9D7E-60DDBA3F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DB9EE-9076-4F88-846C-3BD4DAE5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C1115-5153-4658-A9DE-D971B544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7B3FD-3855-436C-99A2-5CCCE925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3C31F-8504-4F36-A37A-38D19FA6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064BB-D11F-474E-B5F3-EF9638F1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19095-32E1-4A35-ACB5-9A1EB103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17270-AD7B-43C4-BDAD-BF4A605B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7E324-3367-470D-9140-D4E0E95A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A30BA-FCBE-42C4-A1EE-5580942B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C204F-BCFF-4287-8C8F-1ED570C7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E0F0-1695-4B19-91AE-5388C3CD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6592D-A21C-4FB6-ACCF-3B1A07A9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C620B-4650-463D-B888-DF3CF496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06B6B-C8A7-4E05-998E-08E4D6CA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D50C6-69ED-43AB-A27C-D81097B9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8AA9C-6BB1-44D7-B11A-C084FDBA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3654B-5FD8-45BC-AB87-02A32D84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4BF0A-F4A8-4AF2-9209-3DB94BB1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A7541-4AA3-4A65-B0A3-9D78199F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A2EFE-836A-4F88-9820-A3A7FE86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9A36E-2690-49ED-AD42-249D027C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BF13-F9F9-48FC-BE77-0AE95B82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1E558-0599-40F1-939F-D4262D6A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D04A3-300F-462E-9028-87C0EDEB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A2BD7-55C4-4E05-BEE8-A53E37E0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8727E-756A-4FB6-AD77-29417E26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C44CD-1AAC-4358-86E3-BAAE1CB6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4B813-4CE9-4CE1-BB66-C75F54E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8EEF8-2C2D-4B80-8C0A-F3509EF6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1250B-34F3-479C-8C67-32847E3D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43B555-BFAA-4A2D-810F-0C6AFE5B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77C5C-B38A-4965-A4AA-56E4F74C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CCED-B6E1-4280-A520-215EDE7F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5759B-E1C8-491B-99CA-9413EF30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A31FE-D543-4C82-98E6-F8AB4E33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37679-E6C5-4920-83AB-F4FC70AF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31C34-1BCF-4B95-8754-D2C492C4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45E50B-DD0A-4C1F-94B8-E1430900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32CE5-F1FD-4303-94D2-7D6A49C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99E44-82F9-4EA5-9560-AA8889FE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01F34-C8E1-4F3B-BF1A-50000CDC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7A020-610D-425C-910F-A91189A5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7489B-156A-4D63-990B-E8A4EBF7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179E-6EF9-4C8A-9C53-1040AED7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B438DB-5D8F-4798-8210-597B25C0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0F423-B7A4-47E5-9EDD-CDB2620D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A44C4-CF59-4386-B885-38A9118D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E1B4E-278D-4B26-8ECA-5A8FE728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EF33F-2013-42B3-AD60-E43B120A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E68405-B1E8-4D7C-8FED-7623B3AE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266CC-7D77-4587-9AB7-4FB0D402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7BB2A-3102-4507-BB4A-8DA3966C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940FB-B01E-440C-935B-DDC4539A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B7776B-D31A-41BF-AF73-FFA82A53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9442-2F5D-4232-8485-BE42318D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14105B-B2AD-415E-98D8-FC97E191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FBAA92-58D6-44D4-92F8-71C8B22B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A68FE-006E-4E0B-ADE2-CE7E6FEF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F9F94A-34AD-4B80-B5AC-21694677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F801F-C897-45B2-A373-C0AF1D09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F6627-E0F1-4CEF-8F87-BDC14DEF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81740C-9D7A-471F-A362-32E17DD2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57CB7-6075-4D1B-AA3A-EDCDEA70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01AD7-6107-4D2E-AAAD-8817C26D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11876-0E83-4B43-8D41-70067BB2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400-80F0-499F-8E63-323CAE9F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60D5-87F5-4E28-B0C8-FCEB83A7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C59796-C0BF-47F5-8F23-31971581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F6971-A320-4880-A53A-12665C86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81FA5-836F-49FD-AAC3-92BFC510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E9148-C004-4E7E-ADD0-59CE4F27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8DBBC-2692-4C53-AA00-039C485C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FDACD-28BA-48EA-AD45-AAB4B81F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6FA34F-9885-4E82-8AE7-569CEC04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4C442-B286-479B-9DAE-0FE7F88E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4F0E0-C641-4BDD-99EE-9C3F1B2A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04C29-E133-4F07-B023-5960E7F9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49E4-AFF9-4F66-9249-6B9B96F2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3EC6AF-756B-4E4B-9355-49D6263F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5D9B92-6DE8-403B-AD73-C297C4FD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82186-E6F9-4FAE-A058-CD519D46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E47EA2-DC67-4881-B325-751EF380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5A69E3-62A1-4656-B6AC-FD1FCFF3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86D1A-FDDA-41A2-8E20-9D78F9CF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F0AC13-ED76-4B53-9FF2-0043486A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5893-845F-4A9A-8804-E73C11B3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5002-D3FA-404F-B8A7-24528CA9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2746-9A56-4C4C-B93C-5C429938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E592-31F2-43C3-9B9D-960BD54E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DDF64-F03F-4673-8361-0AEF7A35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DAA0-2199-4B65-BFAF-9ACA6F88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FC55-2C24-4FDE-910F-8FAC4DCD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DC831-D1E0-4C98-9257-E5DBC2D4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D21-CEF5-4CC0-B5CA-F6D7F18C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27830-97C2-4257-967A-13FC2427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9E59-B634-4F51-BCA7-A5D596C6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3056-1C3B-481E-A1D2-648013F4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F654-E597-4783-B6AD-5DC51735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4563-5725-4865-B958-527C5D36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0F64B-5F1D-4D02-8CCB-9C04A888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C5CC-B615-45B1-BBE8-AA1F14F8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2B4C8-D2BE-46A9-B0DE-25CE3330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92857-3D42-45E8-AAFB-B55A6481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9EA0-9E81-41A3-91C5-86300A7A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5C8-8D2A-4210-A882-69F5A4ED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061FB-5679-420E-B15A-2C9797AC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078C5-FB23-4BCA-9427-22F06D41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87BC-BCD4-4B5D-84D3-D3AAEA15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7EB2D-7BA9-4B6A-A494-520823AD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2F42B-6453-444E-8B17-52A30FC4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B233C-CC96-4220-B1F8-55F809AD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9F2C-4207-4606-B716-C92E823C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655DB-B467-4E84-A3BD-2B741E38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AA85E-8116-45EC-97F6-EDA6F831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0C331-0E2B-46EA-984E-A367FA5A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5C0-1689-49A0-8BFC-9AF9B2FC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98A12-30D4-47FE-AE46-C8B848C8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0E716-F36C-4B09-9022-E8FE5CC1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5A181-2CCC-4AA6-8100-EE7356E6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1B1DB-129E-4846-9004-A629B834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07BD3-4A6A-4779-87DD-D58BACD2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5F138-2B95-4186-AC1F-2C4D7BC6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A7573-99CB-411B-8615-E18ADF29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73C41-F56A-4CF4-B3AD-2818680B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20A61-850A-4675-9046-8874C826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855C7-DBE4-4AA9-BFF3-C1555D3C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61F-8DBD-463D-AA32-0EE3FEE0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305A9-CF27-49DD-BFA9-1BACBA1A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4BA16-9CF7-4B40-BBE7-C972815C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F6121-DFA6-43E7-BF79-191F3420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2DABF-094F-4BF0-B31E-5073DE54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C695C-5F42-4517-8375-D3F08250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F2B58-EC19-4868-9B76-F17886FB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EB00F-2CC2-4A90-A132-BEE09703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DFC22-5AAC-465A-B03F-6B3AB608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385FB-2AEA-44B9-B374-07FA96A3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141D2-59C3-4650-B938-0CC4E13B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D8A-3CFC-4FC5-A8FC-733E7BE6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E1503-A0BA-45DF-A456-35874D3F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3A0E5-8A53-452C-9890-4F05A242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BE115-520C-4D4A-B7D6-598E2445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88356-2414-4D88-9D32-89363134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883B6-865A-4AAB-9683-451BCBE5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8BDD1-E5CA-4821-B52F-6643D92C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55D57-EF3A-4CFD-B174-BE1DD421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7B87F-4753-4C67-B791-1D55F875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C893F-E6BC-4363-92E0-97CE4251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99AC3-A5ED-4E02-B1C3-93F2A080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0F6-BCA4-4925-89E5-D4EC25D7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8E565-56DA-47E7-96B6-B5B540A3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B0F56-268F-4867-A48E-AB41D20A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7D3BE-2A8E-4799-AF85-4C17BDC1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A0412-027C-4FFF-8B50-A480F302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D45A2-D885-486F-8EAE-0378F0B3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29A6A-631E-47D9-8C87-F56E3181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2E8C6-308D-471F-ABEC-28AF3414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32DAF-733D-49AD-AC8D-82D75EF5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07ECE-03F8-4132-AC9F-1DD3B6EA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17808-5771-4351-8E66-C802CC71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1E9-858E-47C4-B581-5F3444B2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AAC4B-BB16-4A49-B0B4-AAA65395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73BF1-31D3-4801-873E-23C3ED1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000E9-1247-4850-A3CD-CA772600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0102D-C1B5-4257-A498-7E83381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A7DD1-64E0-4084-96C3-D8A1F4B7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42A04-97EB-4FD8-9597-82388612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0CB3C-F74B-4FDB-BD9F-19DD6074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EAAD2-F8AC-474F-B7A6-7F6A0C5E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098DF-5FCB-483F-8E64-5CDA623A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8143F-7A25-48DA-A451-0DB3B9B9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692E-C624-4E3D-85C1-0D1851213E3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4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C44E-0963-44E3-AADC-8D83BA72AD7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DD02-B0D0-4711-AA6F-2E30DF4A5AE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6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8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F258-179D-40B4-9689-47D3E989EA1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E806-F34E-410D-A059-D68AF503B4B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1E73-89AB-4DDB-82F6-EDF7E3C94D60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E801-DD1C-42B9-A048-41115B450EE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5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2AD8-D655-4DC1-AA4D-234B429259D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5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5DF3-18BF-4B98-821F-520BE663742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Imagen 33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4E87-D6E6-450F-A107-2B6A612C332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magen 34" descr=""/>
          <p:cNvPicPr/>
          <p:nvPr/>
        </p:nvPicPr>
        <p:blipFill>
          <a:blip r:embed="rId3"/>
          <a:stretch/>
        </p:blipFill>
        <p:spPr>
          <a:xfrm>
            <a:off x="7810560" y="1440"/>
            <a:ext cx="1341360" cy="1322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DB4D-4EBD-4D0E-9BD1-1C0B79B7D84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9162-1913-4953-95F2-3DAE68419A1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6F65-0413-4C45-A215-BDDEAEA7010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CC34-C5EC-4894-AF17-533D62897DC7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6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B058-37CF-4EE2-AC56-0E32A4EBE52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3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F333-CB35-4DC7-9B22-8DA1FF807D77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0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342A-A5D2-434F-8009-AA543151094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Imagen 34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13222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930B-2941-4607-A252-A13C8E2E5FF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blogs.ya.com/conunpardealas/files/Mafalda_03_E.jpg&amp;imgrefurl=http://ilusionesvanas.blogspot.com/2007/11/esto-no-tiene-ttulo.html&amp;h=281&amp;w=213&amp;sz=15&amp;hl=es&amp;start=10&amp;um=1&amp;tbnid=gz32u7cbhLFHLM:&amp;tbnh=114&amp;tbnw=86&amp;prev=/images%3Fq%3Dmafalda%26um%3D1%26hl%3Des%26rls%3DGGLG,GGLG:2006-14,GGLG:es%26sa%3DX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371600" y="337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262626"/>
                </a:solidFill>
                <a:latin typeface="Arial Rounded MT Bold"/>
              </a:rPr>
              <a:t>Estratexias para a educación social e educativa do alumnado con Trastornos do Espectro do Autismo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859280" y="4941360"/>
            <a:ext cx="428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Century Gothic"/>
              </a:rPr>
              <a:t>CFR Pontevedra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Century Gothic"/>
              </a:rPr>
              <a:t>6 de outubro do 2015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Century Gothic"/>
              </a:rPr>
              <a:t>Manoel Baña Castr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8" name="Picture 5" descr="Mafalda_03_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08640"/>
            <a:ext cx="1771560" cy="2349360"/>
          </a:xfrm>
          <a:prstGeom prst="rect">
            <a:avLst/>
          </a:prstGeom>
          <a:ln w="0">
            <a:noFill/>
          </a:ln>
        </p:spPr>
      </p:pic>
      <p:pic>
        <p:nvPicPr>
          <p:cNvPr id="1259" name="Imagen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Vías de anális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1834920" y="1676520"/>
            <a:ext cx="662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Explicación xenética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Explicación neurobiolóxica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2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Explicación Fisiolóxica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E</a:t>
            </a:r>
            <a:r>
              <a:rPr b="0" lang="es-MX" sz="2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xplicación biolóxica: Vía final común (Baron-Cohen, 1998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    </a:t>
            </a: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Factores xenéticos</a:t>
            </a:r>
            <a:r>
              <a:rPr b="0" lang="es-ES_tradnl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   </a:t>
            </a: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Infeccións Víricas</a:t>
            </a:r>
            <a:r>
              <a:rPr b="0" lang="es-ES_tradnl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   </a:t>
            </a: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Complicacións embarazo/parto</a:t>
            </a:r>
            <a:r>
              <a:rPr b="0" lang="es-ES_tradnl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     </a:t>
            </a: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outras causas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Dano Cerebra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Responsable da comunicación, 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relación social,...</a:t>
            </a:r>
            <a:br>
              <a:rPr sz="1200"/>
            </a:b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                      </a:t>
            </a:r>
            <a:r>
              <a:rPr b="0" lang="es-ES_tradnl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Vía final común</a:t>
            </a:r>
            <a:r>
              <a:rPr b="0" lang="es-ES_tradnl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	</a:t>
            </a:r>
            <a:r>
              <a:rPr b="0" lang="es-MX" sz="12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TEA</a:t>
            </a:r>
            <a:br>
              <a:rPr sz="1200"/>
            </a:b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8" name="Rectangle 4"/>
          <p:cNvSpPr/>
          <p:nvPr/>
        </p:nvSpPr>
        <p:spPr>
          <a:xfrm>
            <a:off x="2050920" y="3598920"/>
            <a:ext cx="6266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Line 5"/>
          <p:cNvSpPr/>
          <p:nvPr/>
        </p:nvSpPr>
        <p:spPr>
          <a:xfrm>
            <a:off x="3559320" y="3598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Line 6"/>
          <p:cNvSpPr/>
          <p:nvPr/>
        </p:nvSpPr>
        <p:spPr>
          <a:xfrm>
            <a:off x="4932360" y="3598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Line 7"/>
          <p:cNvSpPr/>
          <p:nvPr/>
        </p:nvSpPr>
        <p:spPr>
          <a:xfrm>
            <a:off x="7524720" y="3598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8"/>
          <p:cNvSpPr/>
          <p:nvPr/>
        </p:nvSpPr>
        <p:spPr>
          <a:xfrm>
            <a:off x="3541680" y="4238640"/>
            <a:ext cx="1676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Rectangle 9"/>
          <p:cNvSpPr/>
          <p:nvPr/>
        </p:nvSpPr>
        <p:spPr>
          <a:xfrm>
            <a:off x="2286000" y="4648320"/>
            <a:ext cx="2971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10"/>
          <p:cNvSpPr/>
          <p:nvPr/>
        </p:nvSpPr>
        <p:spPr>
          <a:xfrm>
            <a:off x="5767560" y="527364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11"/>
          <p:cNvSpPr/>
          <p:nvPr/>
        </p:nvSpPr>
        <p:spPr>
          <a:xfrm>
            <a:off x="7612200" y="5273640"/>
            <a:ext cx="9903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Line 12"/>
          <p:cNvSpPr/>
          <p:nvPr/>
        </p:nvSpPr>
        <p:spPr>
          <a:xfrm>
            <a:off x="2386080" y="392256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Line 13"/>
          <p:cNvSpPr/>
          <p:nvPr/>
        </p:nvSpPr>
        <p:spPr>
          <a:xfrm>
            <a:off x="4038480" y="39783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Line 14"/>
          <p:cNvSpPr/>
          <p:nvPr/>
        </p:nvSpPr>
        <p:spPr>
          <a:xfrm flipH="1">
            <a:off x="5257440" y="3998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15"/>
          <p:cNvSpPr/>
          <p:nvPr/>
        </p:nvSpPr>
        <p:spPr>
          <a:xfrm flipH="1">
            <a:off x="5230800" y="393696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Line 16"/>
          <p:cNvSpPr/>
          <p:nvPr/>
        </p:nvSpPr>
        <p:spPr>
          <a:xfrm>
            <a:off x="3924360" y="45435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1" name="Conector recto de flecha 2"/>
          <p:cNvCxnSpPr>
            <a:stCxn id="1283" idx="3"/>
          </p:cNvCxnSpPr>
          <p:nvPr/>
        </p:nvCxnSpPr>
        <p:spPr>
          <a:xfrm>
            <a:off x="5257440" y="4876920"/>
            <a:ext cx="754920" cy="39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2" name="Conector recto de flecha 6"/>
          <p:cNvCxnSpPr/>
          <p:nvPr/>
        </p:nvCxnSpPr>
        <p:spPr>
          <a:xfrm>
            <a:off x="7367400" y="5425560"/>
            <a:ext cx="24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464328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Nivel psicolóxica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1979280" y="1599840"/>
            <a:ext cx="67071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6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Teoría da mente (baron-cohen, leslie e frith). Explica a dificultade para querer comunicar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6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Os poucos desexos de comunicar poden explicarse a través da teoría da mente. A dificultade reside na falta de atribución de estados mentales, en pensar que o outro ten o mesmo pensamento que un mesmo. “Si o outro pensa como eu, para que vou a comunicar”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Picture 9" descr="mafalda"/>
          <p:cNvPicPr/>
          <p:nvPr/>
        </p:nvPicPr>
        <p:blipFill>
          <a:blip r:embed="rId1"/>
          <a:stretch/>
        </p:blipFill>
        <p:spPr>
          <a:xfrm>
            <a:off x="1692360" y="836640"/>
            <a:ext cx="5076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Nivel psicolóxica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2700360" y="2133360"/>
            <a:ext cx="58341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Intersubxectividade (Hobson, Trevarthen). Explica a dificultade para interactuar e comprender a comunicación social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É complementario do anterior, pero fai referencia ao afectivo-social na comunicación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Picture 4" descr="[Felipe paying attention]"/>
          <p:cNvPicPr/>
          <p:nvPr/>
        </p:nvPicPr>
        <p:blipFill>
          <a:blip r:embed="rId1"/>
          <a:stretch/>
        </p:blipFill>
        <p:spPr>
          <a:xfrm>
            <a:off x="826920" y="2492280"/>
            <a:ext cx="7947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Nivel psicolóxica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Coherencia central (frith). Explica o parámetro de traballar globalmente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Básase na capacidade de traballar con globalidades. Traballar co importante e desechar o irrelevante. As persoas que non a desenvolven teñen moita dificultade neste aspecto, non ven a globalidade, son hiperselectivos. Quédanse no accesorio, no irrelevante. Eso explicaría, por exemplo, o por qué se fixan na roda dun coche e non no coche no seu conxunt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Picture 5" descr="mafalda13"/>
          <p:cNvPicPr/>
          <p:nvPr/>
        </p:nvPicPr>
        <p:blipFill>
          <a:blip r:embed="rId1"/>
          <a:stretch/>
        </p:blipFill>
        <p:spPr>
          <a:xfrm>
            <a:off x="826920" y="2060640"/>
            <a:ext cx="8317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Nivel psicolóxica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Función executiva (Ozonoff, Russell). Explica o parámetro de traballar organizadamente.</a:t>
            </a:r>
            <a:br>
              <a:rPr sz="2400"/>
            </a:br>
            <a:r>
              <a:rPr b="0" lang="es-MX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As persoas organizámonos en base a unha meta. As persoas que non a desenvolven teñen moita dificultade para elo, para facer plans, ...  por eso non queren que nada cambie, porque non entenden o por qué.</a:t>
            </a:r>
            <a:br>
              <a:rPr sz="2400"/>
            </a:br>
            <a:r>
              <a:rPr b="0" lang="es-MX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Eso explicaría tamén a súa inactividade</a:t>
            </a: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Nivel psicolóxica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As persoas con TEA con ante todo persoas e incorporar o trastorno como un quinto apelido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O visto previamente non clasifica nada nin determina a persoa que posue un TEA. Serve para a comprensión do trastorno, orientala intervención educativa, informa sobre o seu desenvolvemento, que sabe, é capaz, como faremos para comunicarnos,... Pero non os fai iguais sendo diferentes de antemán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O SEU DIAGNÓSTICO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2411280" y="1600200"/>
            <a:ext cx="62755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Serve para determinar do que é capaz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Axudarlle e apoialo no que necesita e demanda, non para clasifical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Realízase de forma diferencial atendendo aos criterios internacionai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Valorando as suas funcionalidade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Tendo estimacións cuantitativas e cualitativa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Contando cos contextos de vida e non só as conducta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Facilitando a sua comprensión e os por qué do seu comportament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Interactuando e establecendo unha relación positiva coa persoa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A sua historia nos deixou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476000" y="2276640"/>
            <a:ext cx="75596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O TEA como un trastorno emocional: agresión polo medio.</a:t>
            </a:r>
            <a:br>
              <a:rPr sz="2800"/>
            </a:br>
            <a:r>
              <a:rPr b="0" lang="es-ES_tradnl" sz="2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· enfermedade mental; nais e pais responsables.</a:t>
            </a:r>
            <a:br>
              <a:rPr sz="2800"/>
            </a:br>
            <a:r>
              <a:rPr b="0" lang="es-ES_tradnl" sz="2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·  Bloqueo afectivo, familias culpables, problemas de apego, estructura familiar, retraso mental..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Resposta: Búscase a terapia individual, apártase aos pais, os especialistas son os que poden…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A AVALIACIÓN DOS TE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2411280" y="1600200"/>
            <a:ext cx="62755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404040"/>
                </a:solidFill>
                <a:latin typeface="Century Gothic"/>
              </a:rPr>
              <a:t>Unha avaliación xeral do seu funcionamento mental, comportamentos, comunicación, relacións sociais, habilidades, intereses e aprendizaxe vivencial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404040"/>
                </a:solidFill>
                <a:latin typeface="Century Gothic"/>
              </a:rPr>
              <a:t>Permitan establecer os puntos fortes do seu desenvolvemento así como delimitar dunha forma coidadosa o que é necesario potenciar e/ou estimular e as áreas a desenvolver.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404040"/>
                </a:solidFill>
                <a:latin typeface="Century Gothic"/>
              </a:rPr>
              <a:t>Realizar unha avaliación continua e formativa deste proceso tendo presente que as alteracións non deben determinar resultados inadecuados, utilizando ou adaptando as probas ao nivel real de desenvolvemento da persoa.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404040"/>
                </a:solidFill>
                <a:latin typeface="Century Gothic"/>
              </a:rPr>
              <a:t>Realizar avaliacións exhaustivas dos aspectos relevantes, utilizando diferentes metodoloxías (probas estandarizadas, observación de grabaciones en video e presencial, entrevistas e cuestionarios a pais...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TRASTORNOS ASOCIADOS      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Retraso menta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Problemas de conduct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Problemas de baixa tolerancia á frustració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Trastornos na acción motriz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619280" y="317160"/>
            <a:ext cx="59054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262626"/>
                </a:solidFill>
                <a:latin typeface="Century Gothic"/>
              </a:rPr>
              <a:t>Avaliación e paradigma de apoio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410920" y="1844640"/>
            <a:ext cx="612324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700" spc="-1" strike="noStrike">
                <a:solidFill>
                  <a:srgbClr val="404040"/>
                </a:solidFill>
                <a:latin typeface="Century Gothic"/>
              </a:rPr>
              <a:t>Seguindo o modelo proposto pola AAIDD (Luckasson et al., 1997), o funcionamiento dun individuo é o resultado da interacción das capacidades da persoa –tanto intelectuais como habilidades adaptativas-, cos contextos normais de vida (casa, escola/traballo e comunidad), mediados polos apoyos.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300"/>
            </a:br>
            <a:r>
              <a:rPr b="0" lang="gl-ES" sz="13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CAPACIDADES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ENTORNOS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 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FUNCIONAMIENTO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      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      </a:t>
            </a:r>
            <a:r>
              <a:rPr b="0" lang="es-ES" sz="1300" spc="-1" strike="noStrike">
                <a:solidFill>
                  <a:srgbClr val="404040"/>
                </a:solidFill>
                <a:latin typeface="Century Gothic"/>
              </a:rPr>
              <a:t>APOYOS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4" name="5 Triángulo isósceles"/>
          <p:cNvSpPr/>
          <p:nvPr/>
        </p:nvSpPr>
        <p:spPr>
          <a:xfrm>
            <a:off x="3887640" y="3551400"/>
            <a:ext cx="1800360" cy="1295280"/>
          </a:xfrm>
          <a:prstGeom prst="triangle">
            <a:avLst>
              <a:gd name="adj" fmla="val 50000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5" name="7 Conector recto de flecha"/>
          <p:cNvCxnSpPr/>
          <p:nvPr/>
        </p:nvCxnSpPr>
        <p:spPr>
          <a:xfrm>
            <a:off x="4785840" y="5229360"/>
            <a:ext cx="1080" cy="28800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316" name="9 Conector recto de flecha"/>
          <p:cNvCxnSpPr/>
          <p:nvPr/>
        </p:nvCxnSpPr>
        <p:spPr>
          <a:xfrm flipV="1">
            <a:off x="5076360" y="5229000"/>
            <a:ext cx="1080" cy="28800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AVALIACIÓN PSICOPEDAGÓXIC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800" spc="-1" strike="noStrike">
                <a:solidFill>
                  <a:srgbClr val="404040"/>
                </a:solidFill>
                <a:latin typeface="Century Gothic"/>
              </a:rPr>
              <a:t>Demanda e comprensión dos pais sobre o trastorno. O axuste de expectativas é aceptación é o primeiro paso para que os pais empecen a actuar de forma coherente. Sempre se pode mellorar e a experiencia en programas de atención temprana demóstranos que os resultados poden ser moi bos si a intervención é adecuada (Schuler, 2001; Jones, 2002; Lle Couteur, 2003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Axuda ás familias na educación e convivencia o que significa tomar decisións e asesorar en función de cada familia e situació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AVALIACIÓN PSICOPEDAGÓXIC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Analizar as demandas e determinalos os apoios necesarios:</a:t>
            </a:r>
            <a:br>
              <a:rPr sz="1800"/>
            </a:b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Perfil: Profesor Terapéutico de Pedagoxía (PT), Profesor de Audición e Linguaxe (AL)</a:t>
            </a:r>
            <a:r>
              <a:rPr b="0" lang="es-ES_tradnl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: </a:t>
            </a: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Intensidade: intermitente, limitado, extenso, xeralizado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Organización do apoio e coordinación cos profesionais e familia con respecto á educación. Os programas de desenvolvemento Persoal son unha boa Estratexia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Introducir ao centro na dinámica de inclusión proposta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262626"/>
                </a:solidFill>
                <a:latin typeface="Tahoma"/>
              </a:rPr>
              <a:t>Educar a unha Persoa con Tea é educar na diferenza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Century Gothic"/>
              </a:rPr>
              <a:t>É</a:t>
            </a:r>
            <a:r>
              <a:rPr b="0" lang="es-MX" sz="2400" spc="-1" strike="noStrike">
                <a:solidFill>
                  <a:srgbClr val="404040"/>
                </a:solidFill>
                <a:latin typeface="Tahoma"/>
              </a:rPr>
              <a:t> entender que si os nenos non te</a:t>
            </a:r>
            <a:r>
              <a:rPr b="0" lang="es-MX" sz="2400" spc="-1" strike="noStrike">
                <a:solidFill>
                  <a:srgbClr val="404040"/>
                </a:solidFill>
                <a:latin typeface="Century Gothic"/>
              </a:rPr>
              <a:t>ñ</a:t>
            </a:r>
            <a:r>
              <a:rPr b="0" lang="es-MX" sz="2400" spc="-1" strike="noStrike">
                <a:solidFill>
                  <a:srgbClr val="404040"/>
                </a:solidFill>
                <a:latin typeface="Tahoma"/>
              </a:rPr>
              <a:t>en acceso a situaci</a:t>
            </a:r>
            <a:r>
              <a:rPr b="0" lang="es-MX" sz="2400" spc="-1" strike="noStrike">
                <a:solidFill>
                  <a:srgbClr val="404040"/>
                </a:solidFill>
                <a:latin typeface="Century Gothic"/>
              </a:rPr>
              <a:t>ó</a:t>
            </a:r>
            <a:r>
              <a:rPr b="0" lang="es-MX" sz="2400" spc="-1" strike="noStrike">
                <a:solidFill>
                  <a:srgbClr val="404040"/>
                </a:solidFill>
                <a:latin typeface="Tahoma"/>
              </a:rPr>
              <a:t>ns normais, non ter</a:t>
            </a:r>
            <a:r>
              <a:rPr b="0" lang="es-MX" sz="2400" spc="-1" strike="noStrike">
                <a:solidFill>
                  <a:srgbClr val="404040"/>
                </a:solidFill>
                <a:latin typeface="Century Gothic"/>
              </a:rPr>
              <a:t>á</a:t>
            </a:r>
            <a:r>
              <a:rPr b="0" lang="es-MX" sz="2400" spc="-1" strike="noStrike">
                <a:solidFill>
                  <a:srgbClr val="404040"/>
                </a:solidFill>
                <a:latin typeface="Tahoma"/>
              </a:rPr>
              <a:t>n nunca a oportunidade de aprender o que se fai nela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Tahoma"/>
              </a:rPr>
              <a:t>A oportunidade de aprender debe ser independente das suas necesidad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5796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262626"/>
                </a:solidFill>
                <a:latin typeface="Tahoma"/>
              </a:rPr>
              <a:t>Educar a unha persoa con TE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Tahoma"/>
              </a:rPr>
              <a:t>Debe partir do traballo das capacidades sempre. A través destas pódese conseguir solventar as discapacidades; Un dos factores fundamentais para ilo é o da autoestima: as capacidades xenerar unha percepción positiva e posibilitan o coñecement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Tahoma"/>
              </a:rPr>
              <a:t>Contar co apoio das persoas cercanas ó discapacitado, dando información, resolvendo dúvidas, aportando recursos..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Tahoma"/>
              </a:rPr>
              <a:t>Educar en inclusió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628640" y="691920"/>
            <a:ext cx="572472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262626"/>
                </a:solidFill>
                <a:latin typeface="Palatino Linotype"/>
              </a:rPr>
              <a:t>Educar en INCLUSION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2124000" y="2060280"/>
            <a:ext cx="663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Palatino Linotyp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Palatino Linotype"/>
              </a:rPr>
              <a:t>O sistema educativo cambea para que todos/as alumnos/as podan aprender en conxunto , participen e interactúen. Supón un proxecto de millora da escol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Palatino Linotyp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Palatino Linotype"/>
              </a:rPr>
              <a:t>Todo o persoal do colexio ten responsabilidad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Palatino Linotyp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Palatino Linotype"/>
              </a:rPr>
              <a:t>Préstase atención a que e como se ensina establecendo redes naturais de apoio e estratexias de intervención con todo o grup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Palatino Linotyp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Palatino Linotype"/>
              </a:rPr>
              <a:t>Adáptase a aula e os entornos para todos/as alumnos/a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78000" y="620640"/>
            <a:ext cx="65880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262626"/>
                </a:solidFill>
                <a:latin typeface="Palatino Linotype"/>
              </a:rPr>
              <a:t>Para educar en inclusión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834920" y="2057400"/>
            <a:ext cx="662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Palatino Linotyp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404040"/>
                </a:solidFill>
                <a:latin typeface="Palatino Linotype"/>
              </a:rPr>
              <a:t>Superar MEDOS.-</a:t>
            </a:r>
            <a:r>
              <a:rPr b="0" lang="es-ES_tradnl" sz="2800" spc="-1" strike="noStrike">
                <a:solidFill>
                  <a:srgbClr val="404040"/>
                </a:solidFill>
                <a:latin typeface="Palatino Linotype"/>
              </a:rPr>
              <a:t> </a:t>
            </a:r>
            <a:r>
              <a:rPr b="0" lang="es-ES_tradnl" sz="1800" spc="-1" strike="noStrike">
                <a:solidFill>
                  <a:srgbClr val="404040"/>
                </a:solidFill>
                <a:latin typeface="Palatino Linotype"/>
              </a:rPr>
              <a:t>¿sabré facelo, non son especialista? ¿perderán outros? ..........</a:t>
            </a:r>
            <a:r>
              <a:rPr b="0" lang="es-ES_tradnl" sz="2800" spc="-1" strike="noStrike">
                <a:solidFill>
                  <a:srgbClr val="404040"/>
                </a:solidFill>
                <a:latin typeface="Palatino Linotype"/>
              </a:rPr>
              <a:t>Son producto da inseguridade, do medo ao descoñecido.......Superanse con Información e aprendendo a sentir oportunidade e non ameazas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Palatino Linotyp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404040"/>
                </a:solidFill>
                <a:latin typeface="Palatino Linotype"/>
              </a:rPr>
              <a:t>Desmitifacar METODOS</a:t>
            </a:r>
            <a:r>
              <a:rPr b="0" lang="es-ES_tradnl" sz="2800" spc="-1" strike="noStrike">
                <a:solidFill>
                  <a:srgbClr val="404040"/>
                </a:solidFill>
                <a:latin typeface="Palatino Linotype"/>
              </a:rPr>
              <a:t>.- </a:t>
            </a:r>
            <a:r>
              <a:rPr b="0" lang="es-ES_tradnl" sz="1800" spc="-1" strike="noStrike">
                <a:solidFill>
                  <a:srgbClr val="404040"/>
                </a:solidFill>
                <a:latin typeface="Palatino Linotype"/>
              </a:rPr>
              <a:t>pedimos fórmulas que garanticen o éxito.</a:t>
            </a:r>
            <a:r>
              <a:rPr b="0" lang="es-ES_tradnl" sz="2400" spc="-1" strike="noStrike">
                <a:solidFill>
                  <a:srgbClr val="404040"/>
                </a:solidFill>
                <a:latin typeface="Palatino Linotype"/>
              </a:rPr>
              <a:t>  </a:t>
            </a:r>
            <a:r>
              <a:rPr b="0" lang="es-ES_tradnl" sz="2800" spc="-1" strike="noStrike">
                <a:solidFill>
                  <a:srgbClr val="404040"/>
                </a:solidFill>
                <a:latin typeface="Palatino Linotype"/>
              </a:rPr>
              <a:t>Aprendese a construilos desde a propia experiencia e do contraste cos demai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048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Palatino Linotype"/>
              </a:rPr>
              <a:t>A escola inclusiva co alumnado 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1116000" y="2163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404040"/>
                </a:solidFill>
                <a:latin typeface="Monotype Corsiva"/>
              </a:rPr>
              <a:t>Ter en conta o grupo e ofrecer apoios entre todos; estructurar e planificar pensando en todo o grupo, seus puntos fortes, necesidades... ; deseñar obxetivos e contidos multi-nivel; traballar por proxectos e talleres;crear figura de alumno titor; grupos flexibles; axuda mutua; ensinar a aceptar , convivir e apoiar as diferencias; ordenar o espacio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404040"/>
                </a:solidFill>
                <a:latin typeface="Monotype Corsiva"/>
              </a:rPr>
              <a:t> </a:t>
            </a:r>
            <a:r>
              <a:rPr b="0" lang="es-ES_tradnl" sz="2600" spc="-1" strike="noStrike">
                <a:solidFill>
                  <a:srgbClr val="404040"/>
                </a:solidFill>
                <a:latin typeface="Monotype Corsiva"/>
              </a:rPr>
              <a:t>aula con soportes visuais que estructuran a actividade e son un apoio mais na comunicación; educar nos distintos entornos da aula, colexio, comunidade; ofrecendo diferentes materiais para a aprendizaxe, respetando os ritmos e ofrecendo posibilidades a todos/as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A sua comprensión nos deixa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943280" y="2133360"/>
            <a:ext cx="68767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Dada a escasa rentabilidade a sua análise centrouse na conducta e as dificultades: trastorno cognitivo-conductual buscando a educación como única terapia posible de forma intensiv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Céntrase nos estudos de casos e modificabilidade cognitiva e créanse os primeiros centros de educación especial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65898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Palatino Linotype"/>
              </a:rPr>
              <a:t>A escola inclusiva co profesorado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1763280" y="1965240"/>
            <a:ext cx="70563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404040"/>
                </a:solidFill>
                <a:latin typeface="Monotype Corsiva"/>
              </a:rPr>
              <a:t>Espacios e tempos de coordinación; traballo en equipo; apoios axustados; cultura de colaboración; obxetivos compartidos; desenvolver a formación interna; vencer a rixidez mental; aprender a reflexionar sobre aquelo que os alumnos necesitan aprender; creatividade para desenvolver estratexias de participación na aula e de aprendizaxe compartido; aprender a ter confianza en nos mesmos en aquelo que facemos; mantendo actitude positiva e “mediadora” cos alumnos e alumnas; avaliando de maneira permanente; aprender a recoñecelas capacidades e non só as dificultades do alumnado; aprender a observar para actuar de maneira adecuada; manter unha actitude de aprendizaxe permanente......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Palatino Linotype"/>
              </a:rPr>
              <a:t>A escola inclusiva coa familia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1943280" y="1915920"/>
            <a:ext cx="687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404040"/>
                </a:solidFill>
                <a:latin typeface="Monotype Corsiva"/>
              </a:rPr>
              <a:t>Dar seguridade e confianza; garantizar continuidade de procesos; fomentar a participación; consideralos “aliados”no proceso educativo; non consideralos “culpables” do que lle sucede ao seu fillo/a; Axustarnos a cada familia e situación persoal; implicacións das diversas entidades para programas de inclusión, aprender a ter en conta as suas opinións e suxerencias, concienciación social......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262626"/>
                </a:solidFill>
                <a:latin typeface="Palatino Linotype"/>
              </a:rPr>
              <a:t>COA INCLUSION TEMOS QUE FOMENTAR: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Monotype Corsiva"/>
              </a:rPr>
              <a:t>Desenvolvemento persoa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Monotype Corsiva"/>
              </a:rPr>
              <a:t>Benestar emocional, físico e materia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Monotype Corsiva"/>
              </a:rPr>
              <a:t>Autodeterminació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Monotype Corsiva"/>
              </a:rPr>
              <a:t>Inclusión socia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Monotype Corsiva"/>
              </a:rPr>
              <a:t>Dereito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Monotype Corsiv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Monotype Corsiva"/>
              </a:rPr>
              <a:t>En definitiva CALIDADE DE VIDA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54356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3600" spc="-1" strike="noStrike">
                <a:solidFill>
                  <a:srgbClr val="262626"/>
                </a:solidFill>
                <a:latin typeface="Century Gothic"/>
              </a:rPr>
              <a:t>En conclusión, educar para 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500" spc="-1" strike="noStrike">
                <a:solidFill>
                  <a:srgbClr val="404040"/>
                </a:solidFill>
                <a:latin typeface="Century Gothic"/>
              </a:rPr>
              <a:t>AUTODETERMINACIÓN ou CAPACIDADE DE DECISIÓN DA PROPIA VIDA, DOS PROPIOS ACTOS E CONSECUENCIA DELES. Unha combinación de habilidades, coñecemento e crenzas que capacitan a unha persoa para comprometerse nunha conduta autónoma, autorregulada e dirixida a unha meta. Para a autodeterminación é esencial a comprensión das forzas e dificultades dun mesmo, xunto coa crenza de que se é capaz e efectivo. Cando actuamos sobre as bases destas habilidades e actitudes, as persoas teñen máis capacidade para tomar o control das súas vidas e asumir o papel de adultos con éxito (Field, Martin, Milleiro, Ward e Wehmeyer, 1998; 2006, 2009). </a:t>
            </a:r>
            <a:br>
              <a:rPr sz="1500"/>
            </a:br>
            <a:r>
              <a:rPr b="0" lang="gl-ES" sz="15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gl-ES" sz="1500" spc="-1" strike="noStrike">
                <a:solidFill>
                  <a:srgbClr val="404040"/>
                </a:solidFill>
                <a:latin typeface="Century Gothic"/>
              </a:rPr>
              <a:t>CALIDADE DE VIDA: benestar emocional, material e físico, relacións interpersonais, desenvolvemento persoal, inclusión social e a autodeterminación (Schuler, 2001; Jones, 2002; Lle Couteur, 2003; Schalock, 2007, 2015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332000" y="27756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A partires de mediados dos 80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Os TEA diferencianse da enfermedade mental sendo considerados como unha alteración do desenvolvemento amplia e profund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A investigación céntrase en aspectos relacionados e multivariados: bioloxía, xenética, neuroloxía, psicoloxía, ..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Os procedementos famse mais naturais, interactivos e funcionais buscando o desenvolvemento dos procesos mentai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943280" y="259920"/>
            <a:ext cx="580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Teñen capacidades e dificultades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Sobrecompensan o visual, o sensorial, a memoria visual, a intelixencia estratéxica, asociacións…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Teñen grandes dificultades para comprender o mundo social e cultural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Desenvolven comportamentos disfuncionais que lle funcionan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Comunicanse con estratexias primarias de comunicación como o comportamento, as actividades físicas e motrices,…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547640" y="277560"/>
            <a:ext cx="6120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Non falamos de TEA si non de persoas con…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Teñen moitas dificultades para comprender o todo e as partes integradas neles</a:t>
            </a:r>
            <a:r>
              <a:rPr b="0" lang="es-MX" sz="26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.</a:t>
            </a:r>
            <a:br>
              <a:rPr sz="2600"/>
            </a:br>
            <a:r>
              <a:rPr b="0" lang="es-MX" sz="26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A alternativa: ensinar por entornos, por rincóns, asociando..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6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Teñen grandes dificultades para comunicarse e comprender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6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Ante as suas frustracións acaban aillándose e utilizando mecanismos de comunicación pouco ou nada disfuncionais que lle funcionan para o que queren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476360" y="277560"/>
            <a:ext cx="6191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Dada a velocidade dos cambeos na sua comprensió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2268000" y="2492280"/>
            <a:ext cx="641844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É necesario ser riguroso e utilizar criterios comportamentais para o diagnóstico do Trastorno do Espectro doAutism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Utilización de clasificacións internacinais e rigurosas: o DSM5, o CIE-10..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Facilítanos falar a mesma linguaxe, atopar consensos, asesorar, formar, investigar, etc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332000" y="27756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 </a:t>
            </a:r>
            <a:r>
              <a:rPr b="0" lang="es-MX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Segundo o DSM5, o TEA é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1979280" y="1699920"/>
            <a:ext cx="670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Alteración cualitativa da comunicación</a:t>
            </a:r>
            <a:r>
              <a:rPr b="0" lang="es-ES_tradnl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 e </a:t>
            </a:r>
            <a:r>
              <a:rPr b="0" lang="es-MX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interacción social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Patróns repetitivos de comportamentos, intereses e actividad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Causan unha grande alteración no social e/ou laboral ou outras áreas do funcionamento habitual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Necesítanse diferenciar doutras alteracións do Neurodesenvolvemento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6610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Os Trastornos do Espectro do  Autismo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2195640" y="2133360"/>
            <a:ext cx="63388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Alteración cualitativa do desenvolvement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Profunda/Amplia/Penetrante</a:t>
            </a:r>
            <a:r>
              <a:rPr b="0" lang="es-ES_tradnl" sz="20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Aparecen na infancia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Varían coa idade e a educación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Provocan unha grande alteración á vida da persoa e das que viven con ela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Como tódalas persoas, aprenden e se desenvolven tendo un desenvolvemento neuroatípico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09:37:17Z</dcterms:created>
  <dc:creator>Manoel Baña Castro</dc:creator>
  <dc:description/>
  <dc:language>en-US</dc:language>
  <cp:lastModifiedBy>padana</cp:lastModifiedBy>
  <dcterms:modified xsi:type="dcterms:W3CDTF">2015-10-06T12:43:46Z</dcterms:modified>
  <cp:revision>31</cp:revision>
  <dc:subject/>
  <dc:title>XI Encontros Pedagóxicos da Mariña Luguesa</dc:title>
</cp:coreProperties>
</file>