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944D-FA49-4615-B0D2-1064E5B50DB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FAEA-2C01-4CDB-983B-B3F9463F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0280-7ABF-4791-AE0F-E92AD7FFE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9C0B-6986-47D2-85C2-A03D72B56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52D3-1A25-40AF-8D50-49692E520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55E8-0EF1-41D1-A921-54657780C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2D66-0D7D-43D1-A1F1-283F92242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9F16-CEB4-4D39-A072-8330B451D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D936-77D2-48A4-BFA5-440B67462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C6A3-0711-4F27-BFCF-C72DEA214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C6D3-5747-4822-9AA6-37CD97295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989D-C3CD-4DCB-904F-E371A7301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CF48-E91E-4C90-9230-D62A8C1AB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4763-5171-4BA8-8B96-14ADF640B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DB89-36C6-48CC-9C07-95D05DC2B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A026-E2EE-4552-AD97-8ED6D8B0D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3A09-A06D-469E-8877-8BFBD75D3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0302-C011-47D8-954F-A469B8820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2B50-B210-4773-96D4-E25804281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2B95-8350-4A0D-AB1E-DF9032B54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AFDA-FF35-4DDE-83E5-9817936A3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2CB0-2149-4EBA-968F-04754717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39CC-765F-4612-9A25-309BE49EF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90A4-5E13-49D1-B97F-4B1794734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5315-7239-4C98-B196-D61B69A85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FACC-A910-41E8-B337-04706E011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FFCB-7EBF-404D-AD4A-87CBC01A0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5ECF-1D2E-4A1D-9630-14827C170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6C9B-F0B3-4C86-A629-80B6FE666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5B3C-B7A4-4F1D-8E7E-E0197A6F5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8CCC-CD6A-4822-8F8C-2A4D700F8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F8C7-48D2-4F1F-ADF2-64716E7D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9673-7545-44C1-B4C1-CDDFA8D11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ECFA-8F85-40B7-9FC8-41A3B4E32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4F41-9AB8-4A18-B718-C4799E71D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5942-F814-4A22-8E0D-F838A8CD6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258F-248E-4ED2-BD47-8E231EF1B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253D-9FF5-477A-BBE3-50F72CD3F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9C00-55ED-45C2-91D8-38FC92315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5505-D3F7-402A-A029-31D5D8B3D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3073-6563-4B53-ABD6-671B0B8CD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1005-0F28-433F-8C37-258EBCD5B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7186-963F-48D3-BD73-1CA979C72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D771-1570-466E-9EFB-B183E4B9B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DEB-9EC4-43CE-B3A6-0E34B32D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38D-F5CB-4F28-AE43-FFB32173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985-D16C-4C51-A49B-41C9FF9D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ED6-43E3-463C-959E-78FC6108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3FC7-30CF-47D0-9CCF-CC470061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7FAB-34D2-4547-8A2B-FA5B051D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C36C-674F-401C-9D0A-BBE3C736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8083-AE6F-40EE-9166-31F507EB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F36A-C052-4E99-B377-711D9618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CF68-1C3C-4B4A-B6B4-7EA3B7E8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BEC1-C075-45E4-92C1-B2FEAC49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5CA-26AD-4109-B66E-C39AAC36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BC23-A1C7-44C2-BA56-200C8DC3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824F-9C29-4657-AD27-EE7C1534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1FEE-7F04-4D9A-92EB-1A2E2F71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F24A-847A-42D3-8B66-0927E6C5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9EBC-500F-485F-B61D-8B2AACBC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07DC3-42E1-4D4E-8F7B-FBF89E2F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EE909-2B9A-4ECB-8F8B-237EB6E5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CA0AB-50D7-4D9D-BCAD-C2286BB3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2A7FA-2E28-4434-A775-DEE9D3F8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8A62C-E129-4715-BFD1-5830DBC3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C96-5D6F-4F0E-946E-A112CF95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D8197-A798-48BF-8B12-803EA4BC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A0B05-68BC-4A60-80A1-C07690C5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5D55B-CFAE-43AF-8DDB-88630E01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75E7D-0A41-49AF-BC63-3A3FA807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B9C02-74ED-4EB4-A7BD-4A8CF5BC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11F47-247C-4922-9D4C-6F3B0199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1B370-DC95-4198-A412-D122A6A4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966F0-E56E-44ED-94F9-7217512F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C25EF-0064-448F-8DF7-54F0E841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B5513-5A19-4BE2-BC5D-7F983FEA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609-84D0-4C53-AF52-F2D88073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EEAE-F480-4C4B-A39E-4CC1F94E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F1061-E9F4-4033-AE51-CB1664B8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96698-C441-472F-928B-ABFC79D0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808A2-2D3E-455C-ACA2-FDDF8ED8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1AE2A-6F35-4614-B20F-2BD86B1C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10F19-39FF-41F5-B424-62FA511F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AC81D-7F00-4E40-B52D-E35F4E49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78262-6803-4A8D-9423-78CEFE4D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7519D-050B-4756-A63D-83B89D49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ED7-AF8C-41C5-BD29-14366548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84F1-F0E7-45F2-A003-A4CD8317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1CF-8490-407D-8D1D-AB3E62DD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7FB-829D-474B-9E83-7781A6B3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C39-4B6C-4D0B-8030-D2279199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Susana Agra Rama (CFR da Coruñ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5482-1404-4298-82B2-F6DA696F66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21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23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24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5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26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40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41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42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43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Susana Agra Rama (CFR da Coruñ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501C-E288-4295-84C6-8F419345AD6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1463-E195-412D-89F6-240EA3CA534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Susana Agra Rama (CFR da Coruñ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Susana Agra Rama (CFR da Coruñ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C708-C9E0-4CF9-9B7F-CA15F17133E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journal.eduprojects.net/CFRCoruna/media/Varios%20CFR/EU_Sokrates.gif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apee.es/oapee/inicio/pap/comenius/formacion-continua.html" TargetMode="External"/><Relationship Id="rId2" Type="http://schemas.openxmlformats.org/officeDocument/2006/relationships/hyperlink" Target="http://www.oapee.es/oapee/inicio/pap/comenius/formacion-continua/guia-de-solicitud.html" TargetMode="External"/><Relationship Id="rId3" Type="http://schemas.openxmlformats.org/officeDocument/2006/relationships/hyperlink" Target="http://www.oapee.es/oapee/inicio/servicios/gestion-linea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2.arnes.si/~ossgpo2s/Comenius/" TargetMode="External"/><Relationship Id="rId2" Type="http://schemas.openxmlformats.org/officeDocument/2006/relationships/hyperlink" Target="http://www.comeniustrzemeszno.republika.pl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Leonardo/Estancias%20en%20empresa%20transnacionais.ppt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apee.es/oapee/inicio/pa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apee.es/oapee/inicio/iniciativas/sello-europeo/historico-premiados0/2007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mec.es/programas-europeos/docs/papcontactos.pdf" TargetMode="External"/><Relationship Id="rId2" Type="http://schemas.openxmlformats.org/officeDocument/2006/relationships/hyperlink" Target="http://www.mec.es/programas-europeos/docs/papcontactos.pdf" TargetMode="External"/><Relationship Id="rId3" Type="http://schemas.openxmlformats.org/officeDocument/2006/relationships/hyperlink" Target="http://ec.europa.eu/education/policies/educ/bologna/bologna_en.html" TargetMode="External"/><Relationship Id="rId4" Type="http://schemas.openxmlformats.org/officeDocument/2006/relationships/hyperlink" Target="http://www.cedefop.europa.eu/" TargetMode="External"/><Relationship Id="rId5" Type="http://schemas.openxmlformats.org/officeDocument/2006/relationships/hyperlink" Target="http://www.cedefop.europa.e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ec.es/programas-europeos/docs/papcontactos.pdf" TargetMode="External"/><Relationship Id="rId2" Type="http://schemas.openxmlformats.org/officeDocument/2006/relationships/hyperlink" Target="http://www.mec.es/programas-europeos/docs/papcontactos.pdf" TargetMode="External"/><Relationship Id="rId3" Type="http://schemas.openxmlformats.org/officeDocument/2006/relationships/hyperlink" Target="http://www.mec.es/programas-europeos/docs/papcontactos.pdf" TargetMode="External"/><Relationship Id="rId4" Type="http://schemas.openxmlformats.org/officeDocument/2006/relationships/hyperlink" Target="http://www.mec.es/programas-europeos/docs/papcontacto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apee.es/oapee/inicio/convocatoria/2010.html" TargetMode="External"/><Relationship Id="rId2" Type="http://schemas.openxmlformats.org/officeDocument/2006/relationships/hyperlink" Target="http://www.oapee.es/oapee/inicio/convocatoria/2009.html" TargetMode="External"/><Relationship Id="rId3" Type="http://schemas.openxmlformats.org/officeDocument/2006/relationships/hyperlink" Target="http://ec.europa.eu/education/programmes/llp/call08/guide_en.pdf" TargetMode="External"/><Relationship Id="rId4" Type="http://schemas.openxmlformats.org/officeDocument/2006/relationships/hyperlink" Target="http://www.oapee.es/oapee/inicio/servicios/gestion-linea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52862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438086"/>
                </a:solidFill>
                <a:latin typeface="Trebuchet MS"/>
              </a:rPr>
              <a:t>PROGRAMAS EUROPEOS</a:t>
            </a:r>
            <a:endParaRPr b="0" lang="en-US" sz="3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614560" y="3429000"/>
            <a:ext cx="3529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99"/>
                </a:solidFill>
                <a:latin typeface="Georgia"/>
              </a:rPr>
              <a:t>Susana Agra Ram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99"/>
                </a:solidFill>
                <a:latin typeface="Georgia"/>
              </a:rPr>
              <a:t>CFR A Coruñ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99"/>
                </a:solidFill>
                <a:latin typeface="Georgia"/>
              </a:rPr>
              <a:t>sagra@edu.xunta.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10" descr="Amosa-la imaxe no seu tamaño orixinal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0040" y="642960"/>
            <a:ext cx="2523960" cy="723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3"/>
          <a:stretch/>
        </p:blipFill>
        <p:spPr>
          <a:xfrm>
            <a:off x="4716360" y="5300640"/>
            <a:ext cx="41148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6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438086"/>
                </a:solidFill>
                <a:latin typeface="Trebuchet MS"/>
              </a:rPr>
              <a:t>COMENIUS:</a:t>
            </a:r>
            <a:r>
              <a:rPr b="0" lang="gl-ES" sz="4000" spc="-1" strike="noStrike">
                <a:solidFill>
                  <a:srgbClr val="438086"/>
                </a:solidFill>
                <a:latin typeface="Trebuchet MS"/>
              </a:rPr>
              <a:t> M</a:t>
            </a:r>
            <a:r>
              <a:rPr b="0" lang="gl-ES" sz="3200" spc="-1" strike="noStrike">
                <a:solidFill>
                  <a:srgbClr val="438086"/>
                </a:solidFill>
                <a:latin typeface="Trebuchet MS"/>
              </a:rPr>
              <a:t>obilidade individual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357280" y="1643040"/>
            <a:ext cx="624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FORMACIÓN CONTINUA DO PROFESORADO 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Facilitase ao profesorado a formación nun país europeo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Duración: máximo ata 6 seman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Contía: axuda de 1.400€ de media 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 u="sng">
                <a:solidFill>
                  <a:srgbClr val="67afbd"/>
                </a:solidFill>
                <a:uFillTx/>
                <a:latin typeface="Arial Narrow"/>
                <a:hlinkClick r:id="rId1"/>
              </a:rPr>
              <a:t>http://www.oapee.es/oapee/inicio/pap/comenius/formacion-continua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Catálogo curs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7afbd"/>
                </a:solidFill>
                <a:uFillTx/>
                <a:latin typeface="Arial Narrow"/>
                <a:hlinkClick r:id="rId2"/>
              </a:rPr>
              <a:t>http://www.oapee.es/oapee/inicio/pap/comenius/formacion-continua/guia-de-solicitud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Formulario solicitud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7afbd"/>
                </a:solidFill>
                <a:uFillTx/>
                <a:latin typeface="Arial Narrow"/>
                <a:hlinkClick r:id="rId3"/>
              </a:rPr>
              <a:t>http://www.oapee.es/oapee/inicio/servicios/gestion-linea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438086"/>
                </a:solidFill>
                <a:latin typeface="Trebuchet MS"/>
              </a:rPr>
              <a:t>COMENIUS:</a:t>
            </a:r>
            <a:r>
              <a:rPr b="0" lang="gl-ES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r>
              <a:rPr b="0" lang="gl-ES" sz="3200" spc="-1" strike="noStrike">
                <a:solidFill>
                  <a:srgbClr val="438086"/>
                </a:solidFill>
                <a:latin typeface="Trebuchet MS"/>
              </a:rPr>
              <a:t>Mobilidade individual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71760" y="20001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Prioridades europe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gl-ES" sz="24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oñer en práctica a adquisición temperá da lingua estranxeira e o Aprendizaxe Integrado de Contidos e Linguas Estranxeiras (AIC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oñer en práctica a ensinanza e o aprendizaxe en equipo e outros métodos de traballo en colaboración, co fin de reforzar a ensinanza de competencias transversais ( aprender a aprender, competencias sociais e cívicas..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repararse para postos de responsabilid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nsinar a grupos heteroxéneos (niveis socio-económicos, cultura, idade, necesidades de aprendizaxe...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Desenvolver enfoques pedagóxicos innovadores para as artes creativas (música, teatro, cine, artes visuais..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438086"/>
                </a:solidFill>
                <a:latin typeface="Trebuchet MS"/>
              </a:rPr>
              <a:t>COMENIUS:</a:t>
            </a:r>
            <a:r>
              <a:rPr b="0" lang="gl-ES" sz="4000" spc="-1" strike="noStrike">
                <a:solidFill>
                  <a:srgbClr val="438086"/>
                </a:solidFill>
                <a:latin typeface="Trebuchet MS"/>
              </a:rPr>
              <a:t> M</a:t>
            </a:r>
            <a:r>
              <a:rPr b="0" lang="gl-ES" sz="3200" spc="-1" strike="noStrike">
                <a:solidFill>
                  <a:srgbClr val="438086"/>
                </a:solidFill>
                <a:latin typeface="Trebuchet MS"/>
              </a:rPr>
              <a:t>obilidade individual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3920" y="2000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FORMACIÓN CONTINUA DO PROFESORADO II Prioridades naciona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 Non ter recibido unha axuda de mobilidade individual nas dúas anteriores convocatori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Asistir a conferencias ou seminarios organizados pola unha rede Comeni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Asistir a cursos incluídos no catálogo Comenius-Grundtvi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Estar participando nunha asociación Comenius e solicitar formación nunha das linguas da asociación (excepto os profesores especialistas de lingua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COMENIUS:</a:t>
            </a:r>
            <a:r>
              <a:rPr b="0" lang="es-ES" sz="4000" spc="-1" strike="noStrike">
                <a:solidFill>
                  <a:srgbClr val="438086"/>
                </a:solidFill>
                <a:latin typeface="Trebuchet MS"/>
              </a:rPr>
              <a:t> Acollida de axudant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Prioridades naciona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  Institucións que estean desenvolvendo unha asociación escolar Comenius e/ou teñan implantados programas plurilingü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  Non ter recibido un axudante Comeni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  Apoio ao profesorado do centro na práctica de aula, beneficiándose do enriquecemento da diversidade lingüística e da dimensión europe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38086"/>
                </a:solidFill>
                <a:latin typeface="Trebuchet MS"/>
              </a:rPr>
              <a:t>COMENIUS :</a:t>
            </a:r>
            <a:r>
              <a:rPr b="0" lang="en-GB" sz="3600" spc="-1" strike="noStrike">
                <a:solidFill>
                  <a:srgbClr val="438086"/>
                </a:solidFill>
                <a:latin typeface="Trebuchet MS"/>
              </a:rPr>
              <a:t>Asociacions escolare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71760" y="1785600"/>
            <a:ext cx="7162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Tipos de asociació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Multilaterais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(a lo menos tres centros de paises diferentes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Bilaterais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(lingüísticos, dos centros con intercambio recíproco del alumnado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Enfoqu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Alumnado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Xestión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Lingüístico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Duració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Bianuais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Financiació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Subvencións dos gastos derivados das mobilidades  e das actividades das asociacións 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38086"/>
                </a:solidFill>
                <a:latin typeface="Trebuchet MS"/>
              </a:rPr>
              <a:t>COMENIUS:</a:t>
            </a:r>
            <a:r>
              <a:rPr b="0" lang="en-GB" sz="4000" spc="-1" strike="noStrike">
                <a:solidFill>
                  <a:srgbClr val="438086"/>
                </a:solidFill>
                <a:latin typeface="Trebuchet MS"/>
              </a:rPr>
              <a:t> Asociacións escola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Prioridades europe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alquera das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8 competencias clave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stablecidas na Recomendación 2006/962/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Superación das desvantaxes socioeconómicas e redución do abandono escol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stimulación e reforzo da creatividade e da innova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   Ampliación da participación nas oportunidades educativas a través da actividade deportiv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38086"/>
                </a:solidFill>
                <a:latin typeface="Trebuchet MS"/>
              </a:rPr>
              <a:t>COMENIUS:</a:t>
            </a:r>
            <a:r>
              <a:rPr b="0" lang="en-GB" sz="4000" spc="-1" strike="noStrike">
                <a:solidFill>
                  <a:srgbClr val="438086"/>
                </a:solidFill>
                <a:latin typeface="Trebuchet MS"/>
              </a:rPr>
              <a:t> Asociacións escola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734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Prioridades naciona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entros escolares plurilingües e, en especial, os que desexen implantar o enfoque AIC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entros escolares situados en zonas urbanas o rurais desfavorecidas economicamente e con alto porcentaxe de inmigrantes ou en perigo de exclus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xemplos: </a:t>
            </a:r>
            <a:r>
              <a:rPr b="0" lang="gl-ES" sz="1400" spc="-1" strike="noStrike" u="sng">
                <a:solidFill>
                  <a:srgbClr val="67afbd"/>
                </a:solidFill>
                <a:uFillTx/>
                <a:latin typeface="Arial Narrow"/>
                <a:hlinkClick r:id="rId1"/>
              </a:rPr>
              <a:t>http://www2.arnes.si/~ossgpo2s/Comenius/</a:t>
            </a:r>
            <a:r>
              <a:rPr b="1" lang="gl-ES" sz="1400" spc="-1" strike="noStrike">
                <a:solidFill>
                  <a:srgbClr val="000000"/>
                </a:solidFill>
                <a:latin typeface="Georgia"/>
              </a:rPr>
              <a:t> (Cinco centros </a:t>
            </a:r>
            <a:r>
              <a:rPr b="1" lang="gl-ES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gl-ES" sz="1400" spc="-1" strike="noStrike">
                <a:solidFill>
                  <a:srgbClr val="000000"/>
                </a:solidFill>
                <a:latin typeface="Georgia"/>
              </a:rPr>
              <a:t>               de primaria de cinco países. Aprendizaxe da lectura, ciencias                         </a:t>
            </a:r>
            <a:r>
              <a:rPr b="1" lang="gl-ES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gl-ES" sz="1400" spc="-1" strike="noStrike">
                <a:solidFill>
                  <a:srgbClr val="000000"/>
                </a:solidFill>
                <a:latin typeface="Georgia"/>
              </a:rPr>
              <a:t>               e a esinanza ao aire libre. Elaborouse material pedagóxico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500" spc="-1" strike="noStrike">
                <a:solidFill>
                  <a:srgbClr val="53548a"/>
                </a:solidFill>
                <a:latin typeface="Georgia"/>
              </a:rPr>
              <a:t>      </a:t>
            </a:r>
            <a:r>
              <a:rPr b="0" lang="gl-ES" sz="15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http://www.comeniustrzemeszno.republika.pl/</a:t>
            </a:r>
            <a:endParaRPr b="0" lang="en-US" sz="1500" spc="-1" strike="noStrike">
              <a:solidFill>
                <a:srgbClr val="53548a"/>
              </a:solidFill>
              <a:latin typeface="Georgia"/>
            </a:endParaRPr>
          </a:p>
          <a:p>
            <a:pPr lvl="3" marL="16002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500" spc="-1" strike="noStrike">
                <a:solidFill>
                  <a:srgbClr val="53548a"/>
                </a:solidFill>
                <a:latin typeface="Georgia"/>
              </a:rPr>
              <a:t>     </a:t>
            </a:r>
            <a:r>
              <a:rPr b="1" lang="gl-ES" sz="1500" spc="-1" strike="noStrike">
                <a:solidFill>
                  <a:srgbClr val="53548a"/>
                </a:solidFill>
                <a:latin typeface="Georgia"/>
              </a:rPr>
              <a:t>(C</a:t>
            </a:r>
            <a:r>
              <a:rPr b="1" lang="gl-ES" sz="1500" spc="-1" strike="noStrike">
                <a:solidFill>
                  <a:srgbClr val="000000"/>
                </a:solidFill>
                <a:latin typeface="Georgia"/>
              </a:rPr>
              <a:t>inco centros de secundaria de cinco países. Animación á lectura, xuntanzas con autores e elección das mellores reseñas. Elaborouse un folleto e un CD coa presentación)</a:t>
            </a:r>
            <a:endParaRPr b="0" lang="en-US" sz="1500" spc="-1" strike="noStrike">
              <a:solidFill>
                <a:srgbClr val="53548a"/>
              </a:solidFill>
              <a:latin typeface="Georgia"/>
            </a:endParaRPr>
          </a:p>
          <a:p>
            <a:pPr lvl="3" marL="16002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3548a"/>
              </a:solidFill>
              <a:latin typeface="Georgia"/>
            </a:endParaRPr>
          </a:p>
          <a:p>
            <a:pPr lvl="3" marL="16002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3548a"/>
              </a:solidFill>
              <a:latin typeface="Georgia"/>
            </a:endParaRPr>
          </a:p>
          <a:p>
            <a:pPr marL="365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PROGRAMA LEONARDO</a:t>
            </a:r>
            <a:r>
              <a:rPr b="0" lang="es-ES" sz="4000" spc="-1" strike="noStrike">
                <a:solidFill>
                  <a:srgbClr val="438086"/>
                </a:solidFill>
                <a:latin typeface="Trebuchet MS"/>
              </a:rPr>
              <a:t> Acció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stadías en empresas (alumnado FPI(IVT)/ persoas en mercado laboral (PLM) e/ou recen tituladas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Mobilidade para profesionais de FP (VETPRO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Asociacións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(proxectos de baixo presuposto, menos de 25.000€, en 2009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Proxectos multilaterais de transferencia de innova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Visitas preparatorias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ara establecer asociació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Proxectos multilaterais de desenvolvemento de innovación (</a:t>
            </a:r>
            <a:r>
              <a:rPr b="1" lang="gl-ES" sz="2400" spc="-1" strike="noStrike">
                <a:solidFill>
                  <a:srgbClr val="ff0000"/>
                </a:solidFill>
                <a:latin typeface="Arial Narrow"/>
              </a:rPr>
              <a:t>centralizadas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Redes (</a:t>
            </a:r>
            <a:r>
              <a:rPr b="1" lang="gl-ES" sz="2400" spc="-1" strike="noStrike">
                <a:solidFill>
                  <a:srgbClr val="ff0000"/>
                </a:solidFill>
                <a:latin typeface="Arial Narrow"/>
              </a:rPr>
              <a:t>centralizadas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Medidas de acompañamento (</a:t>
            </a:r>
            <a:r>
              <a:rPr b="1" lang="gl-ES" sz="2400" spc="-1" strike="noStrike">
                <a:solidFill>
                  <a:srgbClr val="ff0000"/>
                </a:solidFill>
                <a:latin typeface="Arial Narrow"/>
              </a:rPr>
              <a:t>centralizadas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PROGRAMA LEONARDO</a:t>
            </a:r>
            <a:r>
              <a:rPr b="0" lang="es-ES" sz="4000" spc="-1" strike="noStrike">
                <a:solidFill>
                  <a:srgbClr val="438086"/>
                </a:solidFill>
                <a:latin typeface="Trebuchet MS"/>
              </a:rPr>
              <a:t> Acció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71760" y="2357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Obxectivos específic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poiar a adquisición de coñecementos, destrezas e cualificacións que faciliten o desenvolvemento persoal e profesional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romover a mellora da calidade e a innovación na formación profesional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Reforzar o atractivo da formación profesional e da mobilidade para o mundo empresarial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 u="sng">
                <a:solidFill>
                  <a:srgbClr val="67afbd"/>
                </a:solidFill>
                <a:uFillTx/>
                <a:latin typeface="Arial Narrow"/>
                <a:hlinkClick r:id="rId1"/>
              </a:rPr>
              <a:t>Estancias  transnacionais en empres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438086"/>
                </a:solidFill>
                <a:latin typeface="Trebuchet MS"/>
              </a:rPr>
              <a:t>LEONARDO:</a:t>
            </a:r>
            <a:r>
              <a:rPr b="0" lang="gl-ES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r>
              <a:rPr b="0" lang="gl-ES" sz="3600" spc="-1" strike="noStrike">
                <a:solidFill>
                  <a:srgbClr val="438086"/>
                </a:solidFill>
                <a:latin typeface="Trebuchet MS"/>
              </a:rPr>
              <a:t>Asociació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Destinatari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scolas, centros de F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mpres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xentes socia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Outro tipo de beneficiarios de F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*Mínimo 3 paí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*2 años mínim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66568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ooperación entre profesorado, formadores ou profesionais de FP entre sector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ara aproveitar resultados de proxectos previ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omo primeiro paso para proxectos de mobilidade ou de transferencia de innova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34720" y="1052640"/>
            <a:ext cx="7108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38086"/>
                </a:solidFill>
                <a:latin typeface="Trebuchet MS"/>
              </a:rPr>
              <a:t>PROGRAMA DE APRENDIZAXE PERMANENTE (PAP) 2007-2013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482616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285920" y="1643040"/>
          <a:ext cx="6286320" cy="1798560"/>
        </p:xfrm>
        <a:graphic>
          <a:graphicData uri="http://schemas.openxmlformats.org/drawingml/2006/table">
            <a:tbl>
              <a:tblPr/>
              <a:tblGrid>
                <a:gridCol w="1746360"/>
                <a:gridCol w="1676160"/>
                <a:gridCol w="1536840"/>
                <a:gridCol w="1326960"/>
              </a:tblGrid>
              <a:tr h="18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Comeni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Ed.esco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Eras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Estudios superi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F.P de ciclo sup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Leonardo da Vin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Formación Profesional Inicial e Contin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Grundtv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Educación de adul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18"/>
          <p:cNvSpPr/>
          <p:nvPr/>
        </p:nvSpPr>
        <p:spPr>
          <a:xfrm>
            <a:off x="3276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85920" y="3500280"/>
          <a:ext cx="6286320" cy="1737000"/>
        </p:xfrm>
        <a:graphic>
          <a:graphicData uri="http://schemas.openxmlformats.org/drawingml/2006/table">
            <a:tbl>
              <a:tblPr/>
              <a:tblGrid>
                <a:gridCol w="62863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PROGRAMA TRANSVER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Visitas de estu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(Desenvolvemento de políticas e innovaci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-</a:t>
                      </a:r>
                      <a:r>
                        <a:rPr b="1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Aprendizaxe de idiomas</a:t>
                      </a: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,-</a:t>
                      </a:r>
                      <a:r>
                        <a:rPr b="1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TIC</a:t>
                      </a: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, -</a:t>
                      </a:r>
                      <a:r>
                        <a:rPr b="1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Actividades de difusión e valorización </a:t>
                      </a:r>
                      <a:r>
                        <a:rPr b="0" lang="es-ES" sz="1800" spc="-1" strike="noStrike" u="sng">
                          <a:solidFill>
                            <a:srgbClr val="67afbd"/>
                          </a:solidFill>
                          <a:uFillTx/>
                          <a:latin typeface="Arial Narrow"/>
                          <a:hlinkClick r:id="rId1"/>
                        </a:rPr>
                        <a:t>http://www.oapee.es/oapee/inicio/pap.ht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285920" y="5286240"/>
          <a:ext cx="6262560" cy="1081080"/>
        </p:xfrm>
        <a:graphic>
          <a:graphicData uri="http://schemas.openxmlformats.org/drawingml/2006/table">
            <a:tbl>
              <a:tblPr/>
              <a:tblGrid>
                <a:gridCol w="62625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PROGRAMA JEAN MO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3 actividades clave: </a:t>
                      </a:r>
                      <a:r>
                        <a:rPr b="1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acción Jean Monet</a:t>
                      </a:r>
                      <a:r>
                        <a:rPr b="0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, </a:t>
                      </a:r>
                      <a:r>
                        <a:rPr b="1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Institucións europeas</a:t>
                      </a:r>
                      <a:r>
                        <a:rPr b="0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, </a:t>
                      </a:r>
                      <a:r>
                        <a:rPr b="1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Asociacións europ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GRUNDTVIG-</a:t>
            </a:r>
            <a:r>
              <a:rPr b="0" lang="es-ES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r>
              <a:rPr b="0" lang="es-ES" sz="3200" spc="-1" strike="noStrike">
                <a:solidFill>
                  <a:srgbClr val="438086"/>
                </a:solidFill>
                <a:latin typeface="Trebuchet MS"/>
              </a:rPr>
              <a:t>Educación de adulto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438086"/>
                </a:solidFill>
                <a:latin typeface="Arial Narrow"/>
              </a:rPr>
              <a:t>Acció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Mobilidade de estudiantes adultos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(en 2009)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Axudantes Grundtvig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(en 2009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Axudas para a formación do persoal educativo de persoas adult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Visitas preparatorias para establecer Asociaci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Asociaciones de aprendizaje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(proxectos de baixo presuposto, menos de 25.000€, entre centros de adulto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Proxectos multilaterais (centralizad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Redes (centralizad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Medidas de acompañament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040" y="54936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GRUNDTVIG-</a:t>
            </a:r>
            <a:r>
              <a:rPr b="0" lang="es-ES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r>
              <a:rPr b="0" lang="es-ES" sz="3600" spc="-1" strike="noStrike">
                <a:solidFill>
                  <a:srgbClr val="438086"/>
                </a:solidFill>
                <a:latin typeface="Trebuchet MS"/>
              </a:rPr>
              <a:t>Educación de Adulto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856880" y="1642680"/>
            <a:ext cx="59058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Obxectivos específicos: (artículo 29.1 da Decisión do program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Responder ao desafío educativo dunha poboación envelleci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Prover aos adultos de camiños para mellorar o seu coñecemento e capacidad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.   Obxectivos operativos: (Articulo 29.2 da Decisión do program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Incrementar cualitativa e cuantitativamente a mobilidade de persoas adult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Mellorar cualitativa e cuantitativamente a cooperación entre organizacións que participen na educación de adult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214360" y="1214280"/>
            <a:ext cx="525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xudar ás persoas de sectores sociais vulnerables ou ambientes marxinais, en particular as persoas en idade avanzada ou que abandonaran o sistema de ensinanza sen cualificacións básic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Facilitar o desenvolvemento de prácticas innovadoras na educación de persoas adultas e a súa transferen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poiar o desenvolvemento de contidos, servizos, pedagoxías e prácticas de  aprendizaxe permanente innovadores baseados nas TI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Mellorar os plans pedagóxicos e a xestión das organizacións de educación de persoas adult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4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2 Rectángulo"/>
          <p:cNvSpPr/>
          <p:nvPr/>
        </p:nvSpPr>
        <p:spPr>
          <a:xfrm>
            <a:off x="2071800" y="428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38086"/>
                </a:solidFill>
                <a:latin typeface="Trebuchet MS"/>
              </a:rPr>
              <a:t>GRUNDTVIG-</a:t>
            </a:r>
            <a:r>
              <a:rPr b="0" lang="es-ES" sz="3600" spc="-1" strike="noStrike">
                <a:solidFill>
                  <a:srgbClr val="438086"/>
                </a:solidFill>
                <a:latin typeface="Trebuchet MS"/>
              </a:rPr>
              <a:t> Educación de Adul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GRUNDTVIG-</a:t>
            </a:r>
            <a:r>
              <a:rPr b="0" lang="es-ES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r>
              <a:rPr b="0" lang="es-ES" sz="3600" spc="-1" strike="noStrike">
                <a:solidFill>
                  <a:srgbClr val="438086"/>
                </a:solidFill>
                <a:latin typeface="Trebuchet MS"/>
              </a:rPr>
              <a:t>Educación de adulto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80720" y="2000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38086"/>
                </a:solidFill>
                <a:latin typeface="Arial Narrow"/>
              </a:rPr>
              <a:t>Destinatario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gl-ES" sz="28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Institucións de educación de persoas adultas en calquera das súas modalidad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Persoal educativo de dichas institució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Futuros profesores de educación de persoas adult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Alumnado de institucións de educación de persoas adult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438086"/>
                </a:solidFill>
                <a:latin typeface="Trebuchet MS"/>
              </a:rPr>
              <a:t>GRUNDTVIG:</a:t>
            </a:r>
            <a:r>
              <a:rPr b="0" lang="gl-ES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r>
              <a:rPr b="0" lang="gl-ES" sz="3200" spc="-1" strike="noStrike">
                <a:solidFill>
                  <a:srgbClr val="438086"/>
                </a:solidFill>
                <a:latin typeface="Trebuchet MS"/>
              </a:rPr>
              <a:t>actividades de </a:t>
            </a:r>
            <a:r>
              <a:rPr b="1" lang="gl-ES" sz="3200" spc="-1" strike="noStrike">
                <a:solidFill>
                  <a:srgbClr val="438086"/>
                </a:solidFill>
                <a:latin typeface="Trebuchet MS"/>
              </a:rPr>
              <a:t>Mobilidade individual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42680" y="2000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438086"/>
                </a:solidFill>
                <a:latin typeface="Arial Narrow"/>
              </a:rPr>
              <a:t>Bolsas de formación continu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1" lang="gl-ES" sz="2800" spc="-1" strike="noStrike">
                <a:solidFill>
                  <a:srgbClr val="438086"/>
                </a:solidFill>
                <a:latin typeface="Arial Narrow"/>
              </a:rPr>
              <a:t>Prioridades naciona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Asistencia a conferencias ou seminarios                      organizados por unha rede Grundtvi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Asistencia a cursos do catálogo Comenius-Grundtvi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Participantes dunha asociación Grundtvig e que necesiten formación nunha das linguas da asociación, exceptuando os profesores especialistas nesa lingu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GRUNDTVIG- </a:t>
            </a:r>
            <a:r>
              <a:rPr b="0" lang="es-ES" sz="3600" spc="-1" strike="noStrike">
                <a:solidFill>
                  <a:srgbClr val="438086"/>
                </a:solidFill>
                <a:latin typeface="Trebuchet MS"/>
              </a:rPr>
              <a:t>educación de adulto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99800" y="1714320"/>
            <a:ext cx="52578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38086"/>
                </a:solidFill>
                <a:latin typeface="Arial Narrow"/>
              </a:rPr>
              <a:t>Asociació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38086"/>
                </a:solidFill>
                <a:latin typeface="Arial Narrow"/>
              </a:rPr>
              <a:t>Prioridades europe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alquera das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8 competencias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lave establecidas na Recomendación 2006/962/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Superación das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desventaxas socioeconómic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poio á integración de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inmigran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Mellora da participación das persoas maiores que aprend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stímulo e reforzo da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creativid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GRUNDTVIG-</a:t>
            </a:r>
            <a:r>
              <a:rPr b="0" lang="es-ES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r>
              <a:rPr b="0" lang="es-ES" sz="3600" spc="-1" strike="noStrike">
                <a:solidFill>
                  <a:srgbClr val="438086"/>
                </a:solidFill>
                <a:latin typeface="Trebuchet MS"/>
              </a:rPr>
              <a:t>educación de adulto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38086"/>
                </a:solidFill>
                <a:latin typeface="Arial Narrow"/>
              </a:rPr>
              <a:t>Prioridades naciona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Desenvolvemento de actividades encamiñadas a apoiar a reinserción de mozos e/as non cualificad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ontribuír a mellorar o acceso de persoas adultas ao mercado labor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Reforzar a participación de institucións de educación non formal e inform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Sello europeo da calidade: </a:t>
            </a:r>
            <a:r>
              <a:rPr b="0" lang="gl-ES" sz="1600" spc="-1" strike="noStrike" u="sng">
                <a:solidFill>
                  <a:srgbClr val="67afbd"/>
                </a:solidFill>
                <a:uFillTx/>
                <a:latin typeface="Arial Narrow"/>
                <a:hlinkClick r:id="rId1"/>
              </a:rPr>
              <a:t>http://www.oapee.es/oapee/inicio/iniciativas/sello-europeo/historico-premiados0/2007.htm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PROGRAMA TRANSVERSAL:</a:t>
            </a:r>
            <a:r>
              <a:rPr b="0" lang="es-ES" sz="3600" spc="-1" strike="noStrike">
                <a:solidFill>
                  <a:srgbClr val="438086"/>
                </a:solidFill>
                <a:latin typeface="Trebuchet MS"/>
              </a:rPr>
              <a:t>ACCIÓ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Catro actividades clave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Desenvolvemento de polític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58720" indent="-2091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Visitas de estudio (antigo Arión):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783720" indent="-18576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Favorecer o intercambio de información entre responsables de educación e de formación profesional en temas de interese comú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783720" indent="-18576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poiar o desenvolvemento de políticas de cooperación e innovación a escala europea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09960" indent="-217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Aprendizaxe de lingu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TI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Difusión e explotación de resultad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9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	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9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38086"/>
                </a:solidFill>
                <a:latin typeface="Trebuchet MS"/>
              </a:rPr>
              <a:t>FINANCIACIÓN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sociacións (</a:t>
            </a:r>
            <a:r>
              <a:rPr b="0" lang="gl-ES" sz="2400" spc="-1" strike="noStrike" u="sng">
                <a:solidFill>
                  <a:srgbClr val="438086"/>
                </a:solidFill>
                <a:uFillTx/>
                <a:latin typeface="Arial Narrow"/>
              </a:rPr>
              <a:t>subvencións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de</a:t>
            </a:r>
            <a:r>
              <a:rPr b="0" lang="gl-E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cordo a nº de mobilidad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COMENIUS y LEONARDO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equena (4 mobilidades) max. 8.000€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equena (8 mobilidades) max. 10.000 €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Mediana (12 mobilidades) max. 12.000€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Grande (24 mobilidades) max. 18.000€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GRUNDTVIG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equena (4 mobilidades) max. 11.000€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4" marL="138924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(8 mobilidades) max. 14.000€</a:t>
            </a:r>
            <a:endParaRPr b="0" lang="en-US" sz="2400" spc="-1" strike="noStrike">
              <a:solidFill>
                <a:srgbClr val="a04da3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Mediana (a partir de 12) max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. 17.000€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38086"/>
                </a:solidFill>
                <a:latin typeface="Trebuchet MS"/>
              </a:rPr>
              <a:t>FINANCIACIÓN (II)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xudas para cubrir gastos de viaxe, aloxamento, manutención e matrícula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Dietas máximas por país segundo convocatoria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Xestión do proxecto de mobilidade (Leonardo): máx. 250 euros/beneficiario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reparación lingüística (máximos segundo programa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548a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38086"/>
                </a:solidFill>
                <a:latin typeface="Arial Narrow"/>
              </a:rPr>
              <a:t>Países participant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38086"/>
                </a:solidFill>
                <a:latin typeface="Arial Narrow"/>
              </a:rPr>
              <a:t>Os 27 países da 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38086"/>
                </a:solidFill>
                <a:latin typeface="Arial Narrow"/>
              </a:rPr>
              <a:t>Islandia, Liechtenstein y Norueg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38086"/>
                </a:solidFill>
                <a:latin typeface="Arial Narrow"/>
              </a:rPr>
              <a:t>Turquía e Croac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En próximos ano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Países candidatos: Macedonia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Balcanes occidentales: Albania, Bosnia-Herzegovina, Montenegro, Servia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Confederación Suiza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PROCESO DE SELECCIÓ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195440" y="1773360"/>
            <a:ext cx="494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Solicitu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Elixibilida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Avalia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Selec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Notifica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AVALIACIÓN (1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428560" y="1785960"/>
            <a:ext cx="58849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ada país avalía os proxectos que coordin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Dous avaliadores externos por proxecto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N elabora a listaxe nacional que é aprobado polo Comité Nacional de Selec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labórase unha listaxe xeneral europea por orden de calid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próbanse todos os proxectos de calidade alta (+ de 75 pto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Rexéitanse os que no teñan calidade (- de 50 pto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AVALIACIÓN (2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980720" y="2357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Na banda intermedia aplícanse as prioridades nacionais e se aproban proxectos ata esgotar o presuposto dos países (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de 50 a 75 ptos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A AN emite os convenios financieros e fai efectiva a axuda</a:t>
            </a:r>
            <a:r>
              <a:rPr b="0" lang="es-ES" sz="2800" spc="-1" strike="noStrike">
                <a:solidFill>
                  <a:srgbClr val="438086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800" spc="-1" strike="noStrike">
                <a:solidFill>
                  <a:srgbClr val="438086"/>
                </a:solidFill>
                <a:latin typeface="Trebuchet MS"/>
              </a:rPr>
              <a:t>NOVIDADES (I)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Convocatoria única para todo o Progra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Unha sola Axencia para a súa xestión (OAPE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Selección de candidaturas segundo criterios de calidade comúns en toda Europ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Sistema de xestión más eficaz e si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Formulario electrónico obrigatorio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Financiación mediante subvencione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CONVOCATORIA 2009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980720" y="1980720"/>
            <a:ext cx="716292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Asociacións escolares multilaterais: 4º comunid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     8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Aprobados    4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 </a:t>
            </a: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Asociacións bilaterais: 2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     1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Aprobados       3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Formación continua: 6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      6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Aprobados     3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Axudantes Comenius : 3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      2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Aprobados        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CONVOCATORIA 2009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14720" y="1928520"/>
            <a:ext cx="58845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Acollida de axudantes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: 6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   5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Concedidas    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Asociacións Grundtvig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: 5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:   2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Concedidas:  1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Formación Continua Adultos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: 7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:    1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Concedidas:   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Visitas de estudio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: 8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:       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Concedidas:     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38086"/>
                </a:solidFill>
                <a:latin typeface="Arial Narro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ENLACES IMPORTANT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57200" y="1785960"/>
            <a:ext cx="530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38086"/>
                </a:solidFill>
                <a:latin typeface="Arial Narrow"/>
              </a:rPr>
              <a:t>Comisión Europea (Dirección Xeral de Educación e Cultur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7afbd"/>
                </a:solidFill>
                <a:uFillTx/>
                <a:latin typeface="Arial Narrow"/>
                <a:hlinkClick r:id="rId1"/>
              </a:rPr>
              <a:t>       http://ec.europa.eu/education/index_en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38086"/>
                </a:solidFill>
                <a:latin typeface="Arial Narrow"/>
              </a:rPr>
              <a:t>Axencia Executiv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000" spc="-1" strike="noStrike" u="sng">
                <a:solidFill>
                  <a:srgbClr val="67afbd"/>
                </a:solidFill>
                <a:uFillTx/>
                <a:latin typeface="Arial Narrow"/>
                <a:hlinkClick r:id="rId2"/>
              </a:rPr>
              <a:t>http://eacea.ec.europa.eu/index.ht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1" lang="es-ES" sz="2000" spc="-1" strike="noStrike">
                <a:solidFill>
                  <a:srgbClr val="438086"/>
                </a:solidFill>
                <a:latin typeface="Arial Narrow"/>
              </a:rPr>
              <a:t>Correo electrónico: </a:t>
            </a:r>
            <a:r>
              <a:rPr b="0" lang="es-ES" sz="2000" spc="-1" strike="noStrike">
                <a:solidFill>
                  <a:srgbClr val="438086"/>
                </a:solidFill>
                <a:latin typeface="Arial Narrow"/>
              </a:rPr>
              <a:t>eacea-info@ec.europa.e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38086"/>
                </a:solidFill>
                <a:latin typeface="Arial Narrow"/>
              </a:rPr>
              <a:t>Axencias Naciona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000" spc="-1" strike="noStrike">
                <a:solidFill>
                  <a:srgbClr val="438086"/>
                </a:solidFill>
                <a:latin typeface="Arial Narrow"/>
              </a:rPr>
              <a:t>Listaxe de todas as AN en cada país participan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38086"/>
                </a:solidFill>
                <a:latin typeface="Georgia"/>
              </a:rPr>
              <a:t>Enlaces relevan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38086"/>
                </a:solidFill>
                <a:latin typeface="Arial Narrow"/>
              </a:rPr>
              <a:t>Proceso de Bolonia </a:t>
            </a:r>
            <a:r>
              <a:rPr b="0" lang="es-ES" sz="2000" spc="-1" strike="noStrike" u="sng">
                <a:solidFill>
                  <a:srgbClr val="67afbd"/>
                </a:solidFill>
                <a:uFillTx/>
                <a:latin typeface="Arial Narrow"/>
                <a:hlinkClick r:id="rId3"/>
              </a:rPr>
              <a:t>http://ec.europa.eu/education/policies/educ/bologna/bologna_en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38086"/>
                </a:solidFill>
                <a:latin typeface="Arial Narrow"/>
              </a:rPr>
              <a:t>CEDEFOP (Centro Europeo para el Desarrollo de la Formación Profesiona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7afbd"/>
                </a:solidFill>
                <a:uFillTx/>
                <a:latin typeface="Arial Narrow"/>
                <a:hlinkClick r:id="rId4"/>
              </a:rPr>
              <a:t>       http://www.cedefop.europa.eu</a:t>
            </a:r>
            <a:r>
              <a:rPr b="0" lang="es-ES" sz="2000" spc="-1" strike="noStrike" u="sng">
                <a:solidFill>
                  <a:srgbClr val="67afbd"/>
                </a:solidFill>
                <a:uFillTx/>
                <a:latin typeface="Arial Narrow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Proceso de Copenhague </a:t>
            </a:r>
            <a:r>
              <a:rPr b="0" lang="es-ES" sz="2400" spc="-1" strike="noStrike" u="sng">
                <a:solidFill>
                  <a:srgbClr val="67afbd"/>
                </a:solidFill>
                <a:uFillTx/>
                <a:latin typeface="Arial Narrow"/>
                <a:hlinkClick r:id="rId1"/>
              </a:rPr>
              <a:t>http://ec.europa.eu/education/copenhagen/index_en.htm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e-Twinning </a:t>
            </a:r>
            <a:r>
              <a:rPr b="0" lang="es-ES" sz="2400" spc="-1" strike="noStrike" u="sng">
                <a:solidFill>
                  <a:srgbClr val="67afbd"/>
                </a:solidFill>
                <a:uFillTx/>
                <a:latin typeface="Arial Narrow"/>
                <a:hlinkClick r:id="rId2"/>
              </a:rPr>
              <a:t>http://www.etwinning.net/ww/it/pub/etwinning/index2006.ht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Europass </a:t>
            </a:r>
            <a:r>
              <a:rPr b="0" lang="es-ES" sz="2400" spc="-1" strike="noStrike" u="sng">
                <a:solidFill>
                  <a:srgbClr val="67afbd"/>
                </a:solidFill>
                <a:uFillTx/>
                <a:latin typeface="Arial Narrow"/>
                <a:hlinkClick r:id="rId3"/>
              </a:rPr>
              <a:t>http://europass.cedefop.europa.eu/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Eurydice (Red de información sobre educación en Europ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67afbd"/>
                </a:solidFill>
                <a:uFillTx/>
                <a:latin typeface="Arial Narrow"/>
                <a:hlinkClick r:id="rId4"/>
              </a:rPr>
              <a:t>      http://www.eurydice.or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PLOTEUS (Portal sobre oportunidades 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aprendizaje en todo el espacio europeo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http://europa.eu.int/ploteus/portal/home.js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OUTRAS CONVOCATORIA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14360" y="1785960"/>
            <a:ext cx="5524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Convocatorias axudas a alumnos  e profesores de centros docentes sostidos con fondos públicos da Comunidade Autónoma de Galicia que participen en Estadías e intercambios con centros educativos doutros países para </a:t>
            </a: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favorecer a aprendizaxe activa de linguas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(próxima convocatoria 2010 decembro-xaneiro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-Modalidade das axud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-Visitas Preparatori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2.-Visitas de Estud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3.-Intercambios de profesores (períodos non lectivos en Galici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4.-Proxectos de aprendizaxe de linguas (alumno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*Centros privados-concertados: asinar un convenio coa Consellería de educación e O.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Programa de acompañamento: </a:t>
            </a: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ETwinn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OUTRAS CONVOCATORIA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14680" y="18572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Convocatoria de axudas para alumnos e profesores de formación profesional de centros docentes sostidos con fondos públicos da Comunidade Autónoma de Galicia que participen en </a:t>
            </a: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Estadías en empresas de ámbito transnacional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(última convocatoria: 10/08/09 DOG 19/08/09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-Modalidade das axud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- Visitas preparatori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2.- Estadías de alumnos en empres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3.- Estadías de profesores en empresas: www.edu.xunta.es/f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*   Centros privados-concertados: asinar un convenio coa Consellería de educación e O.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38086"/>
                </a:solidFill>
                <a:latin typeface="Arial Narrow"/>
              </a:rPr>
              <a:t>                          </a:t>
            </a:r>
            <a:r>
              <a:rPr b="1" lang="es-ES" sz="3600" spc="-1" strike="noStrike">
                <a:solidFill>
                  <a:srgbClr val="438086"/>
                </a:solidFill>
                <a:latin typeface="Arial Narrow"/>
              </a:rPr>
              <a:t>DOCUMENTACIÓ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95280" y="1628640"/>
            <a:ext cx="784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Decisión nº 1720/2006/CE do Parlamento Europeo e do Consello pola que se establece o PAP (DOUE, 24-11-2006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Convocatoria europea (DOUE 15-10-2010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 u="sng">
                <a:solidFill>
                  <a:srgbClr val="67afbd"/>
                </a:solidFill>
                <a:uFillTx/>
                <a:latin typeface="Arial Narrow"/>
                <a:hlinkClick r:id="rId1"/>
              </a:rPr>
              <a:t>http://www.oapee.es/oapee/inicio/convocatoria/2010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Convocatoria Nacional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 u="sng">
                <a:solidFill>
                  <a:srgbClr val="67afbd"/>
                </a:solidFill>
                <a:uFillTx/>
                <a:latin typeface="Arial Narrow"/>
                <a:hlinkClick r:id="rId2"/>
              </a:rPr>
              <a:t>http://www.oapee.es/oapee/inicio/convocatoria/2009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Guía do candidato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 u="sng">
                <a:solidFill>
                  <a:srgbClr val="67afbd"/>
                </a:solidFill>
                <a:uFillTx/>
                <a:latin typeface="Arial Narrow"/>
                <a:hlinkClick r:id="rId3"/>
              </a:rPr>
              <a:t>http://ec.europa.eu/education/programmes/llp/call08/guide_en.pdf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Formularios de candidatur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67afbd"/>
                </a:solidFill>
                <a:uFillTx/>
                <a:latin typeface="Arial Narrow"/>
                <a:hlinkClick r:id="rId4"/>
              </a:rPr>
              <a:t>http://www.oapee.es/oapee/inicio/servicios/gestion-linea.htm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PORTFOLIO EUROPEO DAS LINGUA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28840" y="20001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É un documento persoal promovido polo Consello de Europa, no que os que aprenden ou aprenderon unha lingua poden rexistrar as súas experiencias de aprendizaxe de linguas e culturas e reflexionar sobre el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art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*DOSSIER: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Ilustra as capacidades e coñecementos  lingüístic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*BIOGRAFÍA LINGÜÍSTICA: Se describen as experiencias lingüísticas do titular en cada unha das linguas e sirve de guía ao aprendiz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*PASAPORTE: Contén información sobre diplomas obtidos en cursos.Reflicte o que o titular sabe facer en distintas lingu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38086"/>
                </a:solidFill>
                <a:latin typeface="Trebuchet MS"/>
              </a:rPr>
              <a:t>BOLSAS DO CONSELLO DE EUROPA </a:t>
            </a:r>
            <a:br>
              <a:rPr sz="3200"/>
            </a:br>
            <a:r>
              <a:rPr b="1" lang="es-ES" sz="3200" spc="-1" strike="noStrike">
                <a:solidFill>
                  <a:srgbClr val="438086"/>
                </a:solidFill>
                <a:latin typeface="Trebuchet MS"/>
              </a:rPr>
              <a:t>PARA A FORMACIÓN CONTÍNUA DO PERSONAL EDUCATIVO 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195280" y="20606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Son becas convocadas polo Consello de Europa para asistir aos cursos previstos en cada país membro e que están recollidos nun Catálogo de publicación semestral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Quén pode participar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	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●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Ser profesor ou directivo en exercicio de niveis educativos non universitarios, especializado en algúns dos temas relacionados co curso que solicit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	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●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Estar en activo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	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●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Bó nivel de coñecemento de idioma (non se utiliza ningún tipo de traducción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	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●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Cada solicitante poderá pedir un máximo de</a:t>
            </a: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 dous cursos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semestralmente, sobre o ano natural. Non poderá concederse á mesma persoa mais dunha </a:t>
            </a: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 bolsa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cada dous ano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 Narrow"/>
              </a:rPr>
              <a:t>http://www.mec.es/programas-europeos/jsp/plantilla.jsp?id=consejo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DIRECCIÓNS DE INTERES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71400" y="1571760"/>
            <a:ext cx="5257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Programas europeo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www.edu.xunta.es/e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Axencia nacional (OAPE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es-ES" sz="1600" spc="-1" strike="noStrike">
                <a:solidFill>
                  <a:srgbClr val="438086"/>
                </a:solidFill>
                <a:latin typeface="Arial Narrow"/>
              </a:rPr>
              <a:t>http://www.mec.es/programas-europeos/jsp/plantillaAnchosoc.jsp?id=344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38086"/>
                </a:solidFill>
                <a:latin typeface="Arial Narrow"/>
              </a:rPr>
              <a:t>Búsqueda de socio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http://www.eun.org/portal/index.ht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http://www.siu.no/en        http://www.britishcouncil.org/http://partbase.eupro.se/framees.ht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http://www.iz.or.at</a:t>
            </a:r>
            <a:r>
              <a:rPr b="0" lang="es-ES" sz="1800" spc="-1" strike="noStrike">
                <a:solidFill>
                  <a:srgbClr val="438086"/>
                </a:solidFill>
                <a:latin typeface="Georgi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http://partbase.programkontoret.se/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http://www.etwinning.net/es/pub/index.ht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Programas europe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Dirección Xeral de Ordenación, Formación Profesional e Innovación Educativ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Consellería de Educación e O.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Tlf: 981 54 65 4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Carmen San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msande@edu.xunta.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38086"/>
                </a:solidFill>
                <a:latin typeface="Arial Narrow"/>
              </a:rPr>
              <a:t>CALENDARIO PARA A PARTICIPACIÓ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85600" y="1857240"/>
            <a:ext cx="6697800" cy="468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Carta universitaria Erasmus: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28 novembro 2009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Axudantías Comenius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: 29 xaneiro de 201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Comenius Formación continua (tres prazos):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15 de xaneiro 2010, 30 abril 2010 e 15 setembro 201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38086"/>
                </a:solidFill>
                <a:latin typeface="Arial Narrow"/>
              </a:rPr>
              <a:t>-   </a:t>
            </a: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Leonardo mobilidade: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 5 de febreiro de 201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Asociacións Comenius, Leonardo da Vinci e Grundtvig: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 19 de febreiro de 201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Mobilidade alumnado Comenius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: 1 decembro 2009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Erasmus mobilidade</a:t>
            </a:r>
            <a:r>
              <a:rPr b="0" lang="es-ES" sz="2200" spc="-1" strike="noStrike">
                <a:solidFill>
                  <a:srgbClr val="000099"/>
                </a:solidFill>
                <a:latin typeface="Arial Narrow"/>
              </a:rPr>
              <a:t>: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 12 de marzo de 201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Leonardo da Vinci: proxectos multilaterais de transferencia da innovación</a:t>
            </a:r>
            <a:r>
              <a:rPr b="0" lang="es-ES" sz="2200" spc="-1" strike="noStrike">
                <a:solidFill>
                  <a:srgbClr val="000099"/>
                </a:solidFill>
                <a:latin typeface="Arial Narrow"/>
              </a:rPr>
              <a:t>: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 26 de febrero de 201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Programa Transversal (dous prazos):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31 de marzo de 2010,  15 de outubro de 201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COMENIU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</a:t>
            </a:r>
            <a:r>
              <a:rPr b="0" lang="gl-ES" sz="2000" spc="-1" strike="noStrike">
                <a:solidFill>
                  <a:srgbClr val="438086"/>
                </a:solidFill>
                <a:latin typeface="Georgia"/>
              </a:rPr>
              <a:t>.-</a:t>
            </a: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Actividades de mobilidade individual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(descentralizada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1.- Axudas para a formación continua do persoal educativ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2.- Axudantes Comeniu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3.- Acollida de axudantes Comeniu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4.- Visitas preparatorias para establecer asociacións escola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5.- Mobilidades do alumnado (2010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6.- Asociacións escolares Comenius Regio (2009</a:t>
            </a:r>
            <a:r>
              <a:rPr b="0" lang="gl-ES" sz="1800" spc="-1" strike="noStrike">
                <a:solidFill>
                  <a:srgbClr val="438086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2.-</a:t>
            </a: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Asociacións escolares Comenius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(descentralizad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3.-Proxectos multilaterais </a:t>
            </a:r>
            <a:r>
              <a:rPr b="0" lang="gl-ES" sz="2000" spc="-1" strike="noStrike">
                <a:solidFill>
                  <a:srgbClr val="ff0000"/>
                </a:solidFill>
                <a:latin typeface="Arial Narrow"/>
              </a:rPr>
              <a:t>(centralizad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4.-Redes Comenius </a:t>
            </a:r>
            <a:r>
              <a:rPr b="0" lang="gl-ES" sz="2000" spc="-1" strike="noStrike">
                <a:solidFill>
                  <a:srgbClr val="ff0000"/>
                </a:solidFill>
                <a:latin typeface="Arial Narrow"/>
              </a:rPr>
              <a:t>(centralizad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5.-Medidas de Acompañamento </a:t>
            </a:r>
            <a:r>
              <a:rPr b="0" lang="gl-ES" sz="2000" spc="-1" strike="noStrike">
                <a:solidFill>
                  <a:srgbClr val="ff0000"/>
                </a:solidFill>
                <a:latin typeface="Arial Narrow"/>
              </a:rPr>
              <a:t>(centralizad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COMENIU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99760" y="18572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Obxectivos específicos: (artículo 17.1 da Decisión do program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) Fomentar entre os mozos/as e o persoal educativo a comprensión da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diversidade de culturas e linguas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uropeas e do valor desa diversid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b) Axudar aos mozos/as a adquirir as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aptitudes básicas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ara a vida e as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competencias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básicas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necesarias para o seu desenvolvemento persoal, o seu futuro laboral e a cidadanía europea activ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COMENIU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200" spc="-1" strike="noStrike">
                <a:solidFill>
                  <a:srgbClr val="438086"/>
                </a:solidFill>
                <a:latin typeface="Arial Narrow"/>
              </a:rPr>
              <a:t>Obxectivos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</a:t>
            </a:r>
            <a:r>
              <a:rPr b="1" lang="gl-ES" sz="2200" spc="-1" strike="noStrike">
                <a:solidFill>
                  <a:srgbClr val="438086"/>
                </a:solidFill>
                <a:latin typeface="Arial Narrow"/>
              </a:rPr>
              <a:t>operativos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: (</a:t>
            </a:r>
            <a:r>
              <a:rPr b="1" lang="gl-ES" sz="2200" spc="-1" strike="noStrike">
                <a:solidFill>
                  <a:srgbClr val="438086"/>
                </a:solidFill>
                <a:latin typeface="Arial Narrow"/>
              </a:rPr>
              <a:t>Articulo 17.2 da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</a:t>
            </a:r>
            <a:r>
              <a:rPr b="1" lang="gl-ES" sz="2200" spc="-1" strike="noStrike">
                <a:solidFill>
                  <a:srgbClr val="438086"/>
                </a:solidFill>
                <a:latin typeface="Arial Narrow"/>
              </a:rPr>
              <a:t>Decisión do programa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a)Mellorar a calidade e incrementar a mobilidade do alumnado e do persoal educativo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b) Promover Asociacións escolares de calidad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c) Potenciar a aprendizaxe de linguas estranxeiras entre o alumnado e o persoal educativo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d) Apoiar o uso innovador das TIC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e) Apoiar as melloras nos enfoques pedagóxicos e na xestión escola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f) Facilitar a difusión e valorización dos resultados e produtos de proxectos e mobilidad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COMENIU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38086"/>
                </a:solidFill>
                <a:latin typeface="Arial Narrow"/>
              </a:rPr>
              <a:t>Participantes:</a:t>
            </a:r>
            <a:r>
              <a:rPr b="0" lang="es-ES" sz="2800" spc="-1" strike="noStrike">
                <a:solidFill>
                  <a:srgbClr val="438086"/>
                </a:solidFill>
                <a:latin typeface="Arial Narrow"/>
              </a:rPr>
              <a:t> centros educativos que impartan ensinanzas de Réxime Xeral e de Réxime Especial-excepto as EO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438086"/>
                </a:solidFill>
                <a:latin typeface="Arial Narrow"/>
              </a:rPr>
              <a:t>Destinatario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 Persoal educativo de centros docentes e persoal non docente que traballa con alumnos con ne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Futuros profeso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Alumnado de centros educativos, excepto os universitarios ou FP Ciclo Super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0:21:36Z</dcterms:created>
  <dc:creator>ascen</dc:creator>
  <dc:description/>
  <dc:language>en-US</dc:language>
  <cp:lastModifiedBy>EMILIO</cp:lastModifiedBy>
  <dcterms:modified xsi:type="dcterms:W3CDTF">2009-11-24T16:33:34Z</dcterms:modified>
  <cp:revision>112</cp:revision>
  <dc:subject/>
  <dc:title>Diapositiva 1</dc:title>
</cp:coreProperties>
</file>