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7F3-0156-4F3E-A66C-5F6C2E98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256-9955-4126-ADB7-AB267730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9A1-2D5C-44F2-A842-2856345D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1EE-2AA5-4B8A-AA19-86E65189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6E0A-F1B3-426F-81AD-99CE2897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CF20-D0A1-4C64-B815-32FD1E5F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2928-02F9-4042-881A-6361DA5C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AC0E-9E5B-4AD5-BF99-52CC48EA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A60A-BE07-4FD4-A782-4EA1EEAC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7334-609C-4E71-A393-55D87896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8792-4824-4B30-B47D-949231F2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7F7-F15F-43E0-8E82-3CBB7877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E2F3-BA84-4343-A48A-AC0A5880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4BBD-993C-418A-9E7F-530F0108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D251-8976-4BDC-AEE1-D729D7E1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7F16-5C61-45B1-A43A-1DB3A6DF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D4A8-900E-46FB-B108-74225C8A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47323-27E2-49AC-95EA-6FD16D68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CD8B8-A5EB-464C-B7B1-02178F79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DA78B-4308-4358-AAA9-858CC421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A760A-5D72-4418-B714-F3A0D47D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D72CD-F795-402F-9020-44328EE1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389-E50B-490E-9E17-44FF3B4B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34B76-0A31-4EAB-97BA-FB7D29FB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EFF80-7447-4388-9BDD-53BACBC3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4739F-2AC2-41D8-859D-C3F4C57D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A9B4A-F382-46C9-863C-BE59951D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BAB77-7EE7-4CB6-846F-5FBC724F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95608-B4EC-42FE-942F-B4F1E195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6BB07-E0EC-45C3-B7A4-CC556841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C3725-32D3-4D89-862B-6207B7C7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1240D-8A03-4A54-AF78-A329809C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8C320-8CF5-4704-804E-E8AE0882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8F8-D81C-440F-8BED-6C2FC801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13376-DE0B-4DBD-8054-1CB4C143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8B6D2-36C3-43C4-8C91-84F97A3C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894BC-A26E-44C8-AECE-7CD22561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E72EA-1632-4465-AE30-ACE5EDFD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94A3D-0EE6-4EDB-BCC7-9C99717E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C3672-8DAC-4A92-8A49-D8E32CAD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523B1-ECAC-4B2E-80FD-54600352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4B516-4A07-4432-8E2A-BB79BD16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9D948-AC38-4193-84A1-081CC856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A7D-CBC2-4794-9F73-AF55AAB6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868C-B08D-4659-B6CB-0E27D83C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6B2-659F-4D16-B4EE-7CE48EA2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94A-3DD7-4A27-BCAC-BCD22FB1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316-F764-4224-B56F-DD69A51A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2D9F-813B-42A7-AF3E-353735ACD3E5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1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3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4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5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6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0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1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42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43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80D1-D1F9-4FC4-83DD-3E3991F95632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A512-92F6-4FB1-878A-4BFD1B91520B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0179-2DC6-4E4D-93C3-E4974777FAA9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raining.etwinning.net/ww/es/pub/etwinning/index2005.htm" TargetMode="External"/><Relationship Id="rId2" Type="http://schemas.openxmlformats.org/officeDocument/2006/relationships/hyperlink" Target="http://etwinning.cnice.mec.es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rebuchet MS"/>
              </a:rPr>
              <a:t>eTwinn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24456"/>
                </a:solidFill>
                <a:latin typeface="Georgia"/>
              </a:rPr>
              <a:t>Medida de acompañament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24456"/>
                </a:solidFill>
                <a:latin typeface="Georgia"/>
              </a:rPr>
              <a:t>nos </a:t>
            </a:r>
            <a:r>
              <a:rPr b="1" lang="es-ES" sz="2000" spc="-1" strike="noStrike">
                <a:solidFill>
                  <a:srgbClr val="424456"/>
                </a:solidFill>
                <a:latin typeface="Georgia"/>
              </a:rPr>
              <a:t>Programas del Aprendizaxe Permanen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9"/>
          <p:cNvGraphicFramePr/>
          <p:nvPr/>
        </p:nvGraphicFramePr>
        <p:xfrm>
          <a:off x="857160" y="214200"/>
          <a:ext cx="27147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14200"/>
                    <a:ext cx="27147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1" name="Picture 11" descr="portada_pap_peq"/>
          <p:cNvPicPr/>
          <p:nvPr/>
        </p:nvPicPr>
        <p:blipFill>
          <a:blip r:embed="rId3"/>
          <a:stretch/>
        </p:blipFill>
        <p:spPr>
          <a:xfrm>
            <a:off x="6072120" y="285840"/>
            <a:ext cx="1903320" cy="6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24456"/>
                </a:solidFill>
                <a:latin typeface="Trebuchet MS"/>
              </a:rPr>
              <a:t>eTwinning</a:t>
            </a:r>
            <a:br>
              <a:rPr sz="4200"/>
            </a:br>
            <a:r>
              <a:rPr b="1" lang="es-ES" sz="2000" spc="-1" strike="noStrike">
                <a:solidFill>
                  <a:srgbClr val="424456"/>
                </a:solidFill>
                <a:latin typeface="Trebuchet MS"/>
              </a:rPr>
              <a:t>Acerca de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É un marco para que os centros escolares </a:t>
            </a:r>
            <a:r>
              <a:rPr b="1" lang="gl-ES" sz="2000" spc="-1" strike="noStrike">
                <a:solidFill>
                  <a:srgbClr val="000000"/>
                </a:solidFill>
                <a:latin typeface="Georgia"/>
              </a:rPr>
              <a:t>colaboren en internet </a:t>
            </a: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con centros asociados doutros paises europeos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É a acción principal do programa eLearning da Unión Europea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Promove o uso das </a:t>
            </a:r>
            <a:r>
              <a:rPr b="1" lang="gl-ES" sz="2000" spc="-1" strike="noStrike">
                <a:solidFill>
                  <a:srgbClr val="000000"/>
                </a:solidFill>
                <a:latin typeface="Georgia"/>
              </a:rPr>
              <a:t>TIC </a:t>
            </a: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en centros educativos, pero non é preciso ser un experto en TIC para participar. Profesores e estudantes usan internet para traballar xuntos máis alá das fronteiras. Cooperan, intercambian información e comparten materiais didáctico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Georgia"/>
              </a:rPr>
              <a:t>Non ten orzament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Non están previstos viax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Sinxelo: sen trámites burocrático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Pode ser un paso previo para outro programa europe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24456"/>
                </a:solidFill>
                <a:latin typeface="Trebuchet MS"/>
              </a:rPr>
              <a:t>eTwinning</a:t>
            </a:r>
            <a:br>
              <a:rPr sz="4200"/>
            </a:br>
            <a:r>
              <a:rPr b="0" lang="es-ES" sz="2000" spc="-1" strike="noStrike">
                <a:solidFill>
                  <a:srgbClr val="424456"/>
                </a:solidFill>
                <a:latin typeface="Trebuchet MS"/>
              </a:rPr>
              <a:t>¿Quén poden participar?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Un proxecto eTwinning pode ser ideado por dous ou máis profesores, equipos de profesores ou departamentos de área, bibliotecarios, directivos escolares e alumnos de centros escolares de toda Europa. A colaboración pode darse na mesma asignatura ou de forma interdisciplinar gracias ao uso das TIC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Pode participar calquer centro de preescolar, primaria, secundaria, bacharelato e formación profesional (idades comprendidas </a:t>
            </a:r>
            <a:r>
              <a:rPr b="1" lang="gl-ES" sz="2000" spc="-1" strike="noStrike">
                <a:solidFill>
                  <a:srgbClr val="000000"/>
                </a:solidFill>
                <a:latin typeface="Georgia"/>
              </a:rPr>
              <a:t>entre 3 e 19 anos</a:t>
            </a: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eTwinning se extiende aos 27 Estados Membros da Unión Europea. Los territorios y países de ultramar pueden también agregarse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Noruega, Islandia,Turquía e Croacia tamén poden participar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21 versiones linguístic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424456"/>
                </a:solidFill>
                <a:latin typeface="Trebuchet MS"/>
              </a:rPr>
              <a:t>eTwinning</a:t>
            </a:r>
            <a:br>
              <a:rPr sz="3800"/>
            </a:br>
            <a:r>
              <a:rPr b="0" lang="es-ES" sz="2200" spc="-1" strike="noStrike">
                <a:solidFill>
                  <a:srgbClr val="424456"/>
                </a:solidFill>
                <a:latin typeface="Trebuchet MS"/>
              </a:rPr>
              <a:t>Tipos de Proxectos</a:t>
            </a: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Georgia"/>
              </a:rPr>
              <a:t>Temas transversais</a:t>
            </a: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Estos temas están relacionados con outras accións como Comenius: Cidadanía, Patrimonio cultural, Educación medioambiental, Educación intercultural, Educación artística, Educación para a paz, Ciencias, Temas específicos relativos a alumnos/as con necesidades especiais, Estudo dos medio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Georgia"/>
              </a:rPr>
              <a:t>Temas monocurriculares</a:t>
            </a: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Éstas son as asignaturas más importantes que se imparten nos centros escolares europeos: Arte, Bioloxía, Química, Cidadanía, Economía, Educación medioambiental,Ética, Linguas estranxeiras, Xeografía, Historia, Informática/TIC, Lingua e literatura, Matemáticas, Educación para os medios, Música, Ciencias naturais, Filosofía, Educación física, Física, Política, Psicoloxía, Relixión, Ciencias socias, Estudos sociais, Educación especia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Georgia"/>
              </a:rPr>
              <a:t>Temas basados en actividades</a:t>
            </a: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Deportes, Música,Teatro, Artes visuais, Recollida de fondos, Accións humanitarias, Medios de comunicació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24456"/>
                </a:solidFill>
                <a:latin typeface="Trebuchet MS"/>
              </a:rPr>
              <a:t>eTwinning</a:t>
            </a:r>
            <a:br>
              <a:rPr sz="4200"/>
            </a:br>
            <a:r>
              <a:rPr b="0" lang="es-ES" sz="2000" spc="-1" strike="noStrike">
                <a:solidFill>
                  <a:srgbClr val="424456"/>
                </a:solidFill>
                <a:latin typeface="Trebuchet MS"/>
              </a:rPr>
              <a:t>¿Cómo Registrarxe?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eorgia"/>
              </a:rPr>
              <a:t>Duas opcións</a:t>
            </a:r>
            <a:r>
              <a:rPr b="0" lang="es-ES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Rexistrarse na plataforma de probas, ou sexa na seguinte dirección: </a:t>
            </a:r>
            <a:r>
              <a:rPr b="0" lang="gl-ES" sz="1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training.etwinning.net/ww/es/pub/etwinning/index2005.htm</a:t>
            </a: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 , neste caso todo o proceso de irmanamento será sólo una forma de practicar cómo se fai, de cara a se nun futuro quixera levar uno na práctica. Neste caso, e segundo a nacionalidade que se lle asignará, se irmanará con outro alumno que está realizando o mesmo curso. Este irmanamento será meramente de prácticas, cuando acabe o curso, non terá ningún compromiso co centro irmanado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A segunda opción é realizar un irmanamiento real. Se xa ten claro que quere comenzar un eTwinning, entón o rexistro terá que facelo na seguinte dirección: </a:t>
            </a:r>
            <a:r>
              <a:rPr b="0" lang="gl-ES" sz="1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http://etwinning.cnice.mec.es/</a:t>
            </a: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  , neste caso comeza o proceso real de irmanamento, buscando un socio interesado e entre os dous comezaredes a idear o proxecto, o que che valerá igualmente para superalo curso. A única diferenza coa opción anterior é que unha vez terminado o curso seguirás traballando co centro irmanado na línea que plantexedes no proxecto de irmanamento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20:48:32Z</dcterms:created>
  <dc:creator>ascen</dc:creator>
  <dc:description/>
  <dc:language>en-US</dc:language>
  <cp:lastModifiedBy>equipo01</cp:lastModifiedBy>
  <dcterms:modified xsi:type="dcterms:W3CDTF">2009-11-22T17:50:52Z</dcterms:modified>
  <cp:revision>9</cp:revision>
  <dc:subject/>
  <dc:title>eTwinning</dc:title>
</cp:coreProperties>
</file>