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D5C-BF8A-4947-9152-DA660760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7A0-F9EA-4255-9137-3CBA1950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BE3-9890-47CD-B705-975AA550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CC3-2A0B-4C61-AB0C-07B2FD78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0CB-BCFB-4357-8422-F5C8480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8FE-ECEC-4775-B559-40A2AE59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A6B-81DC-4DA3-B7BE-D930C7C6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7FF-1937-45D2-993F-C8A5AE39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34D-DA64-43A6-990A-A52B8AB2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CF4-C0D3-4D41-B662-84F59520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C07-601D-4445-8A9C-44FDDE6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6FD-DF94-494A-A2C8-A65EE498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4DA8-EBE4-4240-9491-5E15B65C76F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os residuos sóli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09Z</dcterms:modified>
  <cp:revision>4</cp:revision>
  <dc:subject/>
  <dc:title>Impactos sobre a atmosfera</dc:title>
</cp:coreProperties>
</file>