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B43-C3B9-4858-81B5-F44A8C8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4E8-4FF7-4ACD-85F4-9B68273A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898-9C53-4B4D-8FD2-FE2CF649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57D-605B-4D94-8DFB-6BCE7565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F42-FF86-4B00-A5D5-736E90F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8B3-6EA2-440B-AAE4-847CECE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4AC-968A-4C9A-8084-5AA45E21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7DB-CC50-4555-A329-8139809A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FCB-6E56-4150-8E0D-BE496700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21B-4226-44C8-BC92-EE79FE3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18F-06B7-4BAD-8B0A-8F232B1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F9A-7813-4087-83C9-AD698A1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82DB-5482-475D-B671-0279EEE4D62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atmosf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53Z</dcterms:modified>
  <cp:revision>1</cp:revision>
  <dc:subject/>
  <dc:title>Impactos sobre a atmosfera</dc:title>
</cp:coreProperties>
</file>