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573-8913-441D-B91F-03DD6EF4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ECC-34FE-4143-A9A7-6B61F69D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9CD-C3D1-4C3C-87AC-5F847020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B49-9F92-4B1E-92DB-10DD148B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00A-2957-415A-BA6B-D55A75A7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1BD-BDBF-4076-880B-74D4E2C3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B46-A80A-43AE-83D4-5617BC9F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9C6-B2A0-4E31-B028-8A42AFA6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035-C74D-4732-AB7A-36739E8B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FCE-902F-4D30-9962-E5FC125D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60E-1F8E-41C5-A1DF-284CF96C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D09-BA16-4394-B788-662676AB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2958-502C-430F-B6C0-00C2C954C18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o so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9:22Z</dcterms:modified>
  <cp:revision>3</cp:revision>
  <dc:subject/>
  <dc:title>Impactos sobre a atmosfera</dc:title>
</cp:coreProperties>
</file>