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29E-9ACF-4D28-8FCE-455120D0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067-515D-45AA-81C9-6ED4DEED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E48-043D-410B-8BEF-7F61FC51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A94-F8AD-4044-97E2-C2CF8432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CBB-072E-4CDB-9926-A6F063C8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7E8-7F7C-45AC-A896-FF3E34C6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9F9-CCC0-4F71-8A7B-319FB85D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31B-1A37-4CFD-AC70-A90CF23E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131-A329-436C-9D73-A3105913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20F-E180-4C0F-840C-AAE0EE27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9BA-5005-469E-B088-5E882CE5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054-0ADC-4E5A-A8D3-E4E13F67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1843-2844-41B6-872B-8B18C1A1F57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a biodiversid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8:58Z</dcterms:modified>
  <cp:revision>5</cp:revision>
  <dc:subject/>
  <dc:title>Impactos sobre a atmosfera</dc:title>
</cp:coreProperties>
</file>