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292-8EBF-4289-89D3-CCB5BC47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6F8-5079-4250-9B62-B27B106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514-0D16-4ADC-A36A-2EC2D37B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62F-5BB5-4AF0-91E5-106A9EC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D8C-D004-4FCE-A1B6-F4396759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C02-EC8F-49E3-AAD4-FC0E316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37A-7F2E-4F7A-BB01-4FCA615E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47D-FA0C-4BBC-B5FD-EA20B914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9AF-6638-4A99-85E3-F5F5FA2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1A3-B8E8-442C-8E45-27FD465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A71-A99F-4701-A195-0ECF370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931-CD62-43E0-9D08-53E986D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253-FB35-4847-B3EC-E5660B5DE38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hidr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32Z</dcterms:modified>
  <cp:revision>2</cp:revision>
  <dc:subject/>
  <dc:title>Impactos sobre a atmosfera</dc:title>
</cp:coreProperties>
</file>